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51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7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wmf" ContentType="image/x-wmf"/>
  <Override PartName="/ppt/media/image17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</p:sldMasterIdLst>
  <p:notesMasterIdLst>
    <p:notesMasterId r:id="rId52"/>
  </p:notesMasterIdLst>
  <p:sldIdLst>
    <p:sldId id="256" r:id="rId53"/>
    <p:sldId id="257" r:id="rId54"/>
    <p:sldId id="258" r:id="rId55"/>
    <p:sldId id="259" r:id="rId56"/>
    <p:sldId id="260" r:id="rId57"/>
    <p:sldId id="261" r:id="rId58"/>
    <p:sldId id="262" r:id="rId59"/>
    <p:sldId id="263" r:id="rId60"/>
    <p:sldId id="264" r:id="rId61"/>
    <p:sldId id="265" r:id="rId62"/>
    <p:sldId id="266" r:id="rId63"/>
    <p:sldId id="267" r:id="rId64"/>
    <p:sldId id="268" r:id="rId65"/>
    <p:sldId id="269" r:id="rId66"/>
    <p:sldId id="270" r:id="rId67"/>
    <p:sldId id="271" r:id="rId68"/>
    <p:sldId id="272" r:id="rId69"/>
    <p:sldId id="273" r:id="rId70"/>
    <p:sldId id="274" r:id="rId71"/>
    <p:sldId id="27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notesMaster" Target="notesMasters/notesMaster1.xml"/><Relationship Id="rId53" Type="http://schemas.openxmlformats.org/officeDocument/2006/relationships/slide" Target="slides/slide1.xml"/><Relationship Id="rId54" Type="http://schemas.openxmlformats.org/officeDocument/2006/relationships/slide" Target="slides/slide2.xml"/><Relationship Id="rId55" Type="http://schemas.openxmlformats.org/officeDocument/2006/relationships/slide" Target="slides/slide3.xml"/><Relationship Id="rId56" Type="http://schemas.openxmlformats.org/officeDocument/2006/relationships/slide" Target="slides/slide4.xml"/><Relationship Id="rId57" Type="http://schemas.openxmlformats.org/officeDocument/2006/relationships/slide" Target="slides/slide5.xml"/><Relationship Id="rId58" Type="http://schemas.openxmlformats.org/officeDocument/2006/relationships/slide" Target="slides/slide6.xml"/><Relationship Id="rId59" Type="http://schemas.openxmlformats.org/officeDocument/2006/relationships/slide" Target="slides/slide7.xml"/><Relationship Id="rId60" Type="http://schemas.openxmlformats.org/officeDocument/2006/relationships/slide" Target="slides/slide8.xml"/><Relationship Id="rId61" Type="http://schemas.openxmlformats.org/officeDocument/2006/relationships/slide" Target="slides/slide9.xml"/><Relationship Id="rId62" Type="http://schemas.openxmlformats.org/officeDocument/2006/relationships/slide" Target="slides/slide10.xml"/><Relationship Id="rId63" Type="http://schemas.openxmlformats.org/officeDocument/2006/relationships/slide" Target="slides/slide11.xml"/><Relationship Id="rId64" Type="http://schemas.openxmlformats.org/officeDocument/2006/relationships/slide" Target="slides/slide12.xml"/><Relationship Id="rId65" Type="http://schemas.openxmlformats.org/officeDocument/2006/relationships/slide" Target="slides/slide13.xml"/><Relationship Id="rId66" Type="http://schemas.openxmlformats.org/officeDocument/2006/relationships/slide" Target="slides/slide14.xml"/><Relationship Id="rId67" Type="http://schemas.openxmlformats.org/officeDocument/2006/relationships/slide" Target="slides/slide15.xml"/><Relationship Id="rId68" Type="http://schemas.openxmlformats.org/officeDocument/2006/relationships/slide" Target="slides/slide16.xml"/><Relationship Id="rId69" Type="http://schemas.openxmlformats.org/officeDocument/2006/relationships/slide" Target="slides/slide17.xml"/><Relationship Id="rId70" Type="http://schemas.openxmlformats.org/officeDocument/2006/relationships/slide" Target="slides/slide18.xml"/><Relationship Id="rId71" Type="http://schemas.openxmlformats.org/officeDocument/2006/relationships/slide" Target="slides/slide19.xml"/><Relationship Id="rId72" Type="http://schemas.openxmlformats.org/officeDocument/2006/relationships/slide" Target="slides/slide20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 type="dt" idx="14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5"/>
          <p:cNvSpPr>
            <a:spLocks noGrp="1"/>
          </p:cNvSpPr>
          <p:nvPr>
            <p:ph type="ftr" idx="14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PlaceHolder 6"/>
          <p:cNvSpPr>
            <a:spLocks noGrp="1"/>
          </p:cNvSpPr>
          <p:nvPr>
            <p:ph type="sldNum" idx="14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36C0-86C5-47E1-8F38-6656879B62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2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A61B-B067-43EE-9A60-2BDB14B0E8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B109-822E-4795-9511-907DA6BBC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A9E7-9465-4322-8859-F4920A64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BC79A-509D-4BA9-A962-6DFC5250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68FF91-6C65-4D13-B1A7-E21FF92F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7A1E6-6F46-4451-849B-E75C7481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1E64A-1879-4BC1-98EA-B25E822D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40DF9-6F11-4CCD-8334-D575145B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16DC3-B611-490B-B396-FB9C37C9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29CC4-230A-4D6A-AA51-CA6720A2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F145F-4BDC-4733-807B-453A2A162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86D93B-AFB9-410E-93DB-AD7AF2069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9506BC-7160-4B41-84D7-BB3398CBD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2D13-9CD4-4677-A239-CFD46C2A1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8FEFA6-AACB-411C-B72E-D9ABCF0B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4252B-A120-47BD-AC60-A06683C0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C6494-BFAA-440B-B827-84EA7B0D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CFADC5-FA86-4464-B769-5BEB5370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BBD48B-37AF-4279-9BB0-E941BC94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7584C-8158-480B-B014-68CC6B6F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0CACB2-2E08-4614-A3D9-295575F8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DF11C-227E-4A1E-9BEE-D0B66485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3CF389-94CA-4378-8034-397E677E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CF00F-14F1-4C19-9EE6-FF3144B27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379F-320B-4640-8B96-C83BFA689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19859-B273-4DE9-8B86-C44D78D8A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97054-BC1E-4177-8578-D9393DDE5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8C217-D492-4ABE-B5C0-D7BD53C2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9831B-8C24-425A-82BC-97AB2746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56D20-AE6D-4559-9371-234D76B6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FB015-8175-4484-A92E-D7054C70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D7FCC-4B80-4F0F-9F0E-845A7EFE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3EE9D-4726-4231-94AC-9199D11F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5EC52-3C65-49F7-9B4B-0A236143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38B276-954A-40B8-9DB5-DAEEED8F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F1BF-0A5B-4647-88CC-BE4706D8C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F8286-461E-4D22-B979-BABAF064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4D020-2C89-47FD-979E-BF94D15E2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EEB83-D337-4EBE-A663-76ADCCFC8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3EC1EB-751E-44FB-845B-59B00B02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D9C73B-CA12-42B7-BC64-0C0272D5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091DC3-174B-4444-8CB6-982F7115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F8CA52-F505-4258-96B5-C4A1AF1F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2FFB1B-5B18-43CD-9BF9-54DAD421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DF557E-2D97-4BEA-9AD0-2279A192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BDF166-75D9-4059-9CEF-EB4D77E5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6080-D78F-4FF3-A7F9-928EACE3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D3754F-9CDB-4AB2-924F-331AF553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359AB-8EB2-47CF-8EDD-E97642C3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37B579-908E-4333-829A-1736B620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A881B-DE91-4511-B04F-33962DAB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A80BD7-4151-4FE7-9A76-03EC7D485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2D9B6B-BE70-40ED-8EE5-4EBBBAA39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6A0B7F-D17F-450D-8AB6-7A2D2C66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93CEBC-0A5F-4110-8515-3F23D133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D50BBE-256B-474C-9B24-8C2D3A1A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55ADD8-1414-48C6-A710-6683C87A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2EEE-0628-476F-B603-801838D0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A598A9-CCBC-455E-9B50-32F54C60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B228CB-99E1-4482-83A6-BFCFE0D6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3BF600-4B8A-4D3E-AD91-08F786AA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392D34-7CA7-458C-B5F4-5F921B3C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7F085E-2091-4C0D-8E49-4AFCB1B4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1B8410-A834-4B0A-9371-6E10D039B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5E961A-0DC4-40B1-9A21-85B7A35A4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D7E698-0B14-47BA-A5AA-E139FAD5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1C5E3D-214F-43FF-B151-C246698E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41EE50-C7D2-4D89-B2A1-FA9ED71A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3153-65E3-4A03-ABCA-DF59F8C9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9F8DBC-0910-4289-B696-03885BF7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49B81D-95D5-4295-987A-4CEB65EB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A8BE46-7950-45CA-9E8D-BB057DE7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47DEA5-728F-4C3A-B312-87441D51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166018-7EAA-4B79-8508-763F1691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C5FAAD-0E0A-4A13-8493-F44F7934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80EE5B-89BB-4CAB-9BF6-7A75254D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FE11F9-B160-4913-8DC1-DC9B40A84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9BE72D-653C-4EAB-BFE6-2F8E81A75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18F61B-FDE6-4C53-8689-72AEE892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FEDB-CCAC-4727-A72C-4E5C44EA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FB11F3-2769-4752-8B46-9D0B876B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4B6E91-D5AE-4382-85F0-DDDB28C4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717170-BD64-4533-893C-98F44FF7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11FA28-1234-4845-A4B4-0ECBD34D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9119F5-4EB0-482C-9495-469AE413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6AA010-9EA7-443D-A74E-46FC7C6A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E76286-E720-4187-8387-840996F6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B2B9D5-2049-4C32-8913-B11DC47F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59AFD5-1951-4C80-8B74-ACD82AE3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244C8D-129B-4F8E-B90D-F27C02633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0D1D-8473-4A98-9692-C88E515B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84733B-4E80-4C05-B991-46D2E5E1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C15789-6176-4287-B978-71BED575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C83182-5CC6-4FF5-B4F0-6F6218E5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D62C2D-E45C-4A12-B61E-557C76EE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CB9B7A-95B7-46A5-B8A5-60F58B43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93D937-79DE-44A6-8C5E-6BE92706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8CCA61-CD02-4416-A3D0-FAC194E7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86F9C5-08C2-4FE5-9064-BC612B54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5658A2-C60C-42B1-BF1F-4A00F2BC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A89922-FC7E-42C1-997A-8FDFC814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FB67-2F25-45B6-89D4-5FC28FD4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D9DA85-4452-4F89-B5A0-B1904260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B29484-6CA4-472C-9AF2-D54C42C3C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74EA43-2504-4A19-A443-BD3968727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C42124-00E0-4073-9D03-53DA275E4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F47ACF-88F9-42CA-BA9D-30302CBF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524411-96E7-47EB-AAE7-7839E2AE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25432D-C38F-4B12-917F-58EC16D6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A5FFED-FD3A-4298-9915-2B542613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CB9956-FC14-4D54-B410-A18389C6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1D8297-919A-4655-87F1-FC1DD9B3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A72B-57C5-4118-87F9-E3FF22F2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7CC0-A84C-4C60-B4DA-DBC7952F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A227E7-4C53-479F-922F-4BD8042B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E5AC4D-2F31-4047-A6B4-47E2EBA3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44E6F2-A2ED-4F86-AE01-0085C693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025A11-DEC8-48F4-9DA2-18DFA16FE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D78D7A-D8D1-4E9D-A64D-CAAC4B9A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6537BC-1453-46E9-A99A-E8018F030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6BE136-EC23-419C-B4EF-0F2D4C75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2F8140-C8BB-42DD-AFD2-09467223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A6E896-1CED-4175-9222-631DF503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7E53C5-8BE4-4026-9712-1B23268A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C60F-2CA5-41BD-9991-745660CF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9915A4-1791-4F9A-826D-13BECB0A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B157E1-A6ED-4B11-9EE2-C6E8D54D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5F6803-8351-4177-A582-54EDFB93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869E01-000E-4E47-9ACF-242EE7A5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13EA7E-B525-4C39-9AC6-E51C34BE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495576-C914-4B70-853B-DE23CB081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0112AE-EA0B-406B-B7A7-B9A4BFE28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4B1F28-9FA7-498C-8F0D-D40CABA1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E7DEF4-502B-4979-AC97-3C201C39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EDEFAC-B2FF-4143-B27F-CAA2C417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3A8E-3F66-4EED-AB83-E44FE885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64178B-41E6-4F1D-8EC4-A50B4F7B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D0A363-E49C-49F5-B01C-1BA9C639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F8B881-1D21-42BF-A7D7-978ECF5E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2544CC-84BC-409A-9F47-BB877FE9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16FEFE-5DA3-42A6-92B9-D66D740E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76796D-1B8B-404C-9BF2-2C66A346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0BEB47-9EC3-4E87-B244-70C99D63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5CFCBB-6A90-462F-86E8-8F64ABC84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3D75D9-A943-4517-93C2-B2B31E039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C638B8-2A49-401B-B0C7-F4D6FFD4F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75BD-86CC-41AA-B094-6D7EB7C03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312C96-0140-438D-B2E3-99390BDF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E38030-89B5-41D3-8F25-6EDEA589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19AB97-E7D1-42F8-A1BF-D4FA02DB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CE11E8-340B-48DC-B0F8-5B53F5B2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30ED1F-27F3-4BF4-913D-6E8CB06E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C243B4-EDCD-4CDC-8F1F-D01C3C65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51301E-6DBA-4464-AD6A-D19CCE7A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E2274E-2BEA-46FF-A151-C5A1DDB9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B8794E-6FC6-44E5-9B14-E8D56F3B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FC8634-8CB8-4019-8887-B424567DA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EBFC-156D-4638-AF70-C6015BAA9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481A14-8E0D-4EB7-A359-2E4F9C3B3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562B31-A8B2-4B3B-9F41-B161ECEA5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C6B0E2-016B-4D22-8F63-7CBE74FC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D541A6-DD4E-40C2-9E51-5C8863C3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CB88EE-4BBB-4578-AB52-066AA9E1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921403-5A3B-4EB5-AACF-0C2C65D3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207256-3C0F-4215-B03F-78D47DE9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25F9EE-15FC-4C85-9F67-8C0D4C0E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85D4F6-1777-468E-957E-C7B35512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0A7331-4BD3-4452-8A6E-8F0C294C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009F1-9244-4553-A060-A92B031D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829A9A-9638-4924-92D3-DC90DF8F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8F97DE-5F3C-4F62-B837-48A620C30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653CEE-FDBE-4F70-93AB-809CE83C6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AEA320-092D-4217-A17B-D8721AEA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06913E-FB12-4747-816D-2F85BE6B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B92D1E-2FB8-48F3-A596-D700402F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9CA69A-8C65-4D7D-A6FA-462EB718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066F00-AC49-4746-8A21-C2465A60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BCE1F7-4532-44EB-BAE7-57CE0393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EE4B25-8267-411B-9425-8A961747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AD69A-B5CB-4BD6-921D-FEBAD6C4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F0C052-9076-4000-95D2-9CF356B8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D160E5-BCA5-42F9-B479-7AE91E7F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C4932D-AFBD-4F2B-8441-0A975368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AD4CFF-CC8F-400C-AF4F-B1CC7A0AA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20F89B-3FA1-4E0F-A6A2-4C7565BBD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D6AEF5-708D-4103-9E95-7E19F1981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620E4C-3D55-41A3-B2C1-DBB295A8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0CF752-1B0F-482E-952F-56B193F4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E43F80-5050-46DE-B5A9-0B276CAC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909679-5701-49CB-B4CA-81B76112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979B8-0DCE-46C7-9C84-48663D97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199CAE-69EA-4797-BE5A-A611FD77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18D1E9-3F25-44DA-965D-950C6243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99BDD8-F632-48B3-8100-64FD2CAA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FB95EA-E03E-4120-B08E-FC16575C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633A11-CFF9-4E4A-9E47-30E34E76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A968FC-A6CE-4847-A25A-F6F56C5C1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865EE6-8401-46FE-B5B9-3165501DD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55F578-B5D2-4475-ABD5-77371FC3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90951C-D692-49E2-85DA-9F8BE092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21DD81C-9804-4228-A7F9-5C169E55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8DCBD-7655-4E20-A851-C7879F57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BCB8BC-75FD-4277-8593-205F05E9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CCE653-9025-42F5-A24E-66EEEF8A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05D9E9-1B56-4FDA-97F3-66ABB792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77EC6C-9054-4FEC-998A-8EDC2224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9FA8BD-F7D9-4BF4-83AA-3511520A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2C3859-9644-4731-8EB7-6E0EF336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2651CB-362F-4964-B105-536F557E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9EFF34-B3AA-4395-9745-0AA75126A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FF1BEC-FD4D-48FE-B09E-56FB47D45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216363-C4A4-44E3-A733-1B2A29FE1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57AFC-C579-48E2-8CB3-DAAAAFB9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06C52C-2D27-4197-83CB-850B500B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16EDCD0-BBA8-4D24-9F59-FE01B22E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C18769F-829B-45A7-BAAC-CC0FFDD0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8C292EB-3980-43B9-A134-13CB94A6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759F695-1736-474F-A062-48820AF8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1EC4F7-1E63-46D8-B532-4A45E521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A531A5A-3B84-45DC-9695-1DA6F1C9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80C6F36-F30C-48F2-95F6-FD0CC09C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D11BE4-129D-4ADB-AC50-7490A87A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35F3B4-E97F-4F87-9312-C4B45274D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E593-E5F0-40F3-8D62-9EA013E2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A9A8E-3F7A-4979-AB65-61606B72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ACB65E7-6595-4306-83A1-504412FE6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BEA0088-50C2-4971-A29D-793E4B8A1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5E80E99-A7FF-4A49-B637-48D8D194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99521ED-62B4-479C-B120-9CAEF0F1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5469572-2B40-4BCF-83E2-61B3278E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A6E4ECC-BF6F-4875-81EF-DEF5E21F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44C68D-4F16-4F4B-A22F-75C074A9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5186F5C-0C75-40DA-B719-D4A2D7CB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F285D6F-76D6-4CCB-A613-6705AE49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AE888D-8505-4F00-AAE6-8BC6BBDC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9ADE7-FE2D-4AD6-A0DA-2FD1DD48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128741-0780-4EA0-AACD-EF8F5649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23B6B0A-9565-4350-BA48-778303A4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97FBF8-F407-46D3-B2AB-BC1579531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B93207B-9D15-4BE9-8B8B-EC264D3C8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04F5F79-B67B-493F-B93A-82F4AF59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374E923-50C1-4A83-843B-CA2F37A6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327F864-B338-45C3-9667-DBDC3464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313457C-0311-439F-8B18-408508C6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197F53-75F9-404F-AD3A-D115B762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6803336-AD8F-44AB-AE5B-A2EFF1E5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8C713-5ED5-4C17-A45F-32812396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9A611DD-4AA9-43D9-84FA-AA859530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C4E395-0985-4031-8EF7-415A7D21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17B6B6E-6A3C-457F-804F-7BAFE55C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0BA9D45-D58C-41C6-B927-61BA84F0A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56D9820-8E45-401E-8473-9C057AE3D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5E484CC-4746-46F7-91C7-3D12F4ED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98D654-E6B6-4880-9A6A-521BEBB9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220BF9D-D851-4EB4-BCAC-4D12F311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E5EC0FF-6FED-4AF7-B47E-3ABD829A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85CE3BB-819F-47BC-B6D5-6D7150F9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5E863-04A4-4009-A879-01DD23C6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5462A98-B326-4741-BE88-F54B53C8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A9FED65-F668-41B8-A5FD-632A73CF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D88635C-F74C-407A-8A4D-4B2B101B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65FC8EC-249A-4E8F-A8CA-EAACB4B1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CB4368-EA49-4B7D-8BF2-FD3A17A0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AF35778-1F14-4A70-A98F-627840AEC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7D9FC72-74A7-4841-A65D-ECB2632CE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382BE0B-0EF5-4034-9B05-CFB2823F8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B329CAA-5A69-4CEB-83C1-49E38800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C99ECEC-9D0E-4115-B0AC-6FB6B62D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347C0-76AF-4116-A68D-E124B464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4D2E58D-7A5C-4E53-B79B-194748B7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A5727B8-77A0-4B21-AAEE-119F96DD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CB7D210-C9A4-47E8-87CA-35192779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1F727F5-422A-4E62-B607-2A2A3AC9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2254E82-9F50-4A91-85E1-8662C84B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B1A3F5D-5297-4D26-987D-72F8B3F3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B498F54-7EF2-463D-B559-1E8BCC82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AE91DFE-8978-4C88-B77C-7037B7473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565B56A-4EBE-4DDD-8528-90A8A963D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5C04DB4-F9EC-4D2A-A62A-CEBC8537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D92C1-AC9B-46C8-A7CF-4B8240775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0DDF87F-14FA-4199-B339-3F6232FA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C9DD8E2-C408-4367-97E5-53256538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28A42FE-7509-423A-AB48-E39025D9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4542F47-098E-4071-9C80-965F6155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6D8B0A6-AF11-443C-85B5-3F3D4AAB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58AED25-A5C5-4064-96B9-0A76FE99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29DDF41-C7DC-430C-95C4-478FADFF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E9198BF-B714-45B3-B20C-8023D1B8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47D7D4C-72FD-4F34-A84C-0A85C3CB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973F675-9577-4979-BFD9-0039478CE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D9D61-2A65-4FD2-97C7-3385E971F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2632EEE-02B6-4BE3-B681-6C451A412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D1A3DC5-CD80-4B04-B4EA-2C9DDC792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094C951-BA78-4964-AD34-D6B33FA4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D22368C-6CE1-4644-ADE0-550EE611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62380AA-7530-4DFE-8D10-C0AC850D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1ED1FB8-18BC-41EB-A921-15B8E8F2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FD10DF1-3CCC-495F-9A89-66AACFF8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22A278C-6CA8-4095-8894-12DEE217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4DCA34E-83E7-4C72-80A6-438D32A6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AEA73B1-57D0-49D7-8D09-32953E49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05AEE-01C7-4CDF-A1E1-2FCC57B90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5A1624C-A67A-414F-93D1-0082BD1B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6F5D33-907E-42FB-BCA6-1C4070052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B416F8D-2A1A-4ED4-AB63-CC91E500C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B23FEC4-A55E-4255-BA28-18A28C51F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B636A6E-1DE0-488B-90B8-C495BA07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0522DFA-7959-4DBF-BD0B-F308A718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323BBBC-B0F1-400B-99A4-8E167B89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58FD97C-C41F-4421-A3D5-04CB748E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1327309-B219-45B9-82CD-01561DF4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4BE775F-7548-44DC-B296-A016955F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9E95D-5021-42F0-B2BE-358E291F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E869DAF-4CF7-4FC6-AFB2-78CAF31B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3D6F6E9-B323-41AF-A33E-2AF13D34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E3814CA-F76B-4ABE-B069-4B926A6D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D142AB2-83B8-4A1B-8FA5-5BF645F57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89AC863-BC57-4C0A-9723-13E42DE87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5328A42-C9F6-49A0-A337-D62AB0B00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C076352-14E6-4EEE-AFDA-6F5CA3EE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73C9B35-121D-4664-8855-CC89F150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B73EE09-BD96-4A2D-BE5B-0A61AA95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EE4E796-D27E-478F-AC30-39BB7B06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B5869-6208-487B-A9CE-6179CBDB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89A5829-516D-4B97-B6E6-A7F3F0BA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4410A95-4D13-44A2-A899-C31CA30D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4721ECB-B1B2-4C64-9343-810C2CD0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E64D916-6E90-4CC9-8BC5-B298BA00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9EF0E0B-0EA7-4463-AFA3-9249AEB3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726226C-CF65-4B8B-8DA6-5D76E0E69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F66A80C-BE81-4BD0-96AA-546CBF134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3E5BD79-63BA-4961-80FA-099692AE4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97C801E-196F-49FD-B586-00993996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F23ED05-48ED-4CE9-A6BF-B09FD8C3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BD22-08D1-4840-9632-B3A363C1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832E8-3988-43AC-8DF1-8854F946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BDA55EF-ED24-48ED-9776-CC948E2A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08382ED-33A7-4E8B-8FE0-8C584D65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4CF8D88-300F-4CF5-BE80-E19CD976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9FB228A-744D-4A93-AF5B-0DC8DF8B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E991793-A6BE-4792-9A7A-E03999E9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2794001-1AA0-4CC4-9747-05D3E3C5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243B0AE-4289-4B1D-AF56-BC35B2EC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3A6038F-670C-4275-854E-D52C165C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A542459-77C6-4B7E-800E-0D95B96BC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CF6EE1C-43A5-4FC9-8607-8AD2311F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F9996-6FE6-4330-8212-65B3294E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E233DC1-6284-4C1E-97B0-700365A7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F5752BC-BC25-4BC1-8D7D-FF292C75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5A51375-F5FD-4014-884A-D4660EDE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E30270C-A7CA-431F-B9C2-BF8E449A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E63C277-7CE4-4637-96C0-8C624565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6E673DD-3F19-4159-8758-EFC59EE0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4E428B3-7864-4CC4-A554-AB65CF3B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4ECA2C0-3075-4535-8308-C44E39E4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3B0858D-C313-46BA-90D4-BE23BA8C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8643FF7-28F4-484A-9A56-03FB3088D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9515A-2DBA-458F-86B3-37178099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080D2D2-86F5-46EC-8094-C2377CB1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FC3EBFC-2602-4D9B-A51A-CD837244D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4EEF7A6-2075-411F-864B-FF79ED2E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EA2A252-3AB9-4719-BE7B-77A6E3CA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390E0B3-2A49-4408-B0C0-5DF10276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4BAB1AB-F55F-4502-A32F-87EB6DEA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099B5D3-3278-4F26-9013-334CD56C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2276693-0F1A-4233-BFAD-FA0F3B10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91B825B-7A89-49CC-8B84-D4ABBF2D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32B47EC-773B-4FA6-922E-9268AAC9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72E2D-B992-487B-AA1A-D98AA687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976AF42-F34B-4639-8C1A-0A08CBFD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64F2D6D-2361-454B-A101-3468CA37D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E1495A1-CE74-48CC-BCE0-FD65587B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F0F1197-4AC5-4F33-B51D-AE75C53C7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4024152-0F6F-4361-9905-DF465213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9CBAB6B-A258-4F72-A8F6-DA0249A9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D82BB77-6BAE-433B-A098-AB65D63D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7C0059F-795F-4E4F-AE4D-0DC56520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1E60C6F-B789-419D-BA46-432011FB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40F2C09-7DBA-4B22-9CC7-4E326F10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F6EBE-01AF-4B82-A78F-CA2634D8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2DCDACA-CE29-428C-B6AE-43B4EE65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F61E8B8-6144-408D-ADC4-BF2ABD4B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9E0EB51-E7BA-4C22-A539-C508D43A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F958CB6-4952-4CFA-8037-3BA51CC3A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128034A-FF9A-42D9-BDE3-BA02D3412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601729D-5E09-4639-89BB-52F161D35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AD1AD18-717F-46FD-9DC0-188C8E46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003A4E4-5243-4AB3-8E8C-CA828195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9D8CC4C-2C5A-48CC-9CA8-190B25C7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F2AC305-B91F-421F-A8CC-A7DEE43D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07842-7194-4DF6-82AC-1D4CBBEC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A83CCD5-9D7C-49A1-8937-F0A1EF0D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A6307A0-7C82-4BCF-8DE6-79E4C1C1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EF2A433-929F-4AB5-A714-AFB3B072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67B047D-B9AB-4505-9E76-6D202335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288DB1A-594B-4BFD-B07C-9DE7A8A1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72FCC9D-35E8-4C8D-AC4A-79C92CD3A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5683258-DC62-4D2E-BEE9-FA1FDB04B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D482D12-30E8-49AB-A265-18099A7E7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B8D17A0-9FCB-427B-8E64-E124F716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BAD10D6-7896-4CA0-9D6B-7E56F6C8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D60BD-1CB3-4CD4-8A77-A95313BD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608012F-D453-4DF0-B146-CDE36AAA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1FC2264-9479-46EB-ADBE-BD768555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19621E1-0FC2-4CAB-86D8-1DB0BA0A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D821B01-3E1E-467A-833D-F70D19BA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144A38A-2F0C-4405-8654-53634EA3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C0CD6E1-A59F-49E0-BAD5-1E7DC515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34624F3-F8DB-4256-AA50-4DE0956D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133FCC2-2C1C-4CA7-927D-7DE017F49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78390F0-E0B9-4BE4-ADE0-BF572B5B1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A3F355F-579A-4B99-91E5-D3468F5F2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6F226-6B26-4A49-AE65-CEBA0E27F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B7D166B-99E4-4CC3-9FCE-1C87B905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385A588-F89D-4050-A40C-BFE846B5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BECDC32-5040-4DF2-B5B4-A315BFA8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67B5576-A98A-49AF-9FF7-8371C334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3655FC0-1783-48D0-8FD2-C6F7133E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DDE6194-DC80-431A-A83D-6BD05168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786828A-B49F-40BC-9934-F5F74C3F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43F3B6A-AC89-4D82-80E6-3111D286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190B46D-D2DD-4E77-B6B9-0A9CEF76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3AC7DDB-ECD8-4309-85B1-CD008B03D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1ADBC-93A3-4785-AE75-C5B6C8785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72DDA3D-80CF-4C33-8D56-F699196F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629196A-C465-44E3-AA6D-4AF4DF619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EFA2B63-6270-4899-8DFB-520D91CD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B0BA742-65E9-4E7A-AAB2-9B5166B6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16F4E31-2034-40A6-9BEB-6DBB13A7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6261AC5-9B73-4D79-9C15-2DC4D4F3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109B985-23B1-41A1-A8B7-098658D7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4156469-9DE7-40BC-9AAB-7B0472F0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5137CA4-3EC9-43BD-A827-EE3EB15C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3CFD4EB-8FA1-41A6-B985-3E6F1700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141ED-D5D7-4C4E-98AC-6F7AF6704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1ACB341-3502-4382-AF79-193C1D84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167A191-59EA-47D5-AD04-361E6A289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C5F7B27-F210-4966-85AC-E8B6E4DE8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A033A70-2562-4A37-9C3D-485CCD4EC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BFF327F-E7C8-4981-992B-0707973A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A82F355-F00C-4650-B07E-2597BC73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BF0C447-3A86-41E5-B878-BD449857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6440D13-3D0D-4693-8D9F-E6CBEBDF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4D75858-BD6A-47EC-A3EE-B9023AEE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2562994-D0BD-4396-8200-0F073F02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7062-45DB-4AAE-9C03-2F73A755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98027-9E87-4113-9E82-44AAD04C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1C0F822-A11A-4E5E-8C12-29B6C328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31F5451-5E14-469E-A028-3E63A5EE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6239841-CC93-4151-97E9-510856DF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73011C0-F9AC-4F99-96B9-D8DDA31F0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A71F9D1-F96F-4425-9579-2EA8CDC84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32FC509-2E4E-4543-91B9-585924786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E465252-A8B0-4CFD-B410-8DBB8DA9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665C3A9-9D92-42B4-87CA-65BF0A64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E91C9E8-1AE7-418D-8BE0-460573D9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720568F-5C60-48F4-8CB9-E58A07CD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87CFA-F600-4EB7-B374-B98F7ABB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0962217-316A-4F14-9378-AA7F43CD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6A44E60-BCF6-48E1-8CF8-0E0979F9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D66BBFA-5154-4E3A-A1C7-7E70EA9F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27AA9D3-AEFB-422A-97A8-A079C7F2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D9F492D-A9C2-4C62-8D8F-23E0ED5C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E3C9D84-A7F7-4C37-856E-5576000A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DDC904E-FA72-4494-B1BB-389DD3B23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4B091A6-45A2-44D3-87C9-86CE57103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9AB921E-85BE-488E-8838-26D61F61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342AEA9-F966-4EA2-9485-C66F687B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CD4EE-F92B-4EF4-80F8-BFEF3446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ABB6F4D-2961-41AC-9CE4-FDF419E5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D4F824F-269D-4905-82AF-9622E426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0DC43F3-50F6-4A8F-9CB5-2A53FBAA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73B7ABF-E1B8-4EAD-B1CB-53DE3D8C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F38128E-B374-4EE7-B23E-34592413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0690755-A0C0-4DDC-8286-E56CC70A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8AE077D-82C6-486B-93CC-006D0C73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FD94650-DB91-4E99-A582-B03C6F2E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5325829-BB50-4F6D-9A42-DA44F0EF4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D97D1E9-938F-42CE-8F5D-D1B44680F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68CF6-9215-494A-BB65-31BFF43D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2CA7E4F-00CC-4F3F-967A-72FF2AE0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E60CE0C-CE3E-4175-AF51-55857884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41EAFDC-3F36-459D-8F3A-BBFE73BB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C96D8C6-3DFC-4DE6-90EC-5AF4BFF9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4B58892-25E6-4847-A292-B73DE0E0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C7A17C7-A45E-4008-8C24-07AC66DE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861688B-ED7C-457F-8A43-40E54E13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6C238B1-D59B-431A-B7FD-84B25C94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AAD60C8-9448-4D86-8BAB-26D21845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236383C-E748-4B9D-BE43-23CECFB0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C1184-E578-41E0-A2CD-272F95F1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96C3D48-C302-403E-9EA8-5882A8FDA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B1073A0-1595-4A27-8BC8-7251F9295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C74EF02-D625-4662-BED6-E672A6FC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0E53203-943D-46AA-BDAF-8A317287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E98C945-90A3-4566-B549-78127C43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16E6FC1-E8C6-4A76-AACA-FF0482EE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33978A6-4D75-49ED-9C0D-38B2659C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2407CB2-1C83-49CC-9D5E-C5833C0A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4FC5AD7-7500-420C-9942-729368B8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6536B75-EFCC-4681-A32D-909E6642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C57AF-47D1-4774-91DB-934E581C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27F7147-B882-4B4B-9024-355CF2BD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02C8ECE-ADEB-4A5C-88FB-196602763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1A18184-3B1B-4E81-98EB-91106AAA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DA66664-EF44-41CE-BD58-BC89BFF90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72C643A-FBBF-4E72-99E3-80522139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4CC37EB-6A24-402A-BC97-0FDDBF32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7C637A4-FFB2-4C1F-A426-C4E5A67C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1F2E6C7-DC95-425C-95EB-ED5460F9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3373A80-A291-4D09-89F2-B9D6CFB4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205C569-8A32-4CAE-8F09-8DDC352B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82BFA-D08F-406E-A493-BCE40227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853AB45-8691-44CB-9045-A1841013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1074AE4-7E76-4937-BA9D-282834BD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B32D123-073F-4845-8600-FD279328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B24582E-A500-43B5-A673-AF667C675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466C698-C699-4D52-899A-0777B908B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857BD3C-FEFB-4B51-A8AB-496A75FE5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5966FE3-221C-4D13-B2B2-D1FF0640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200EF0E-8CD2-4E98-A79D-34336D9D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9C1198E-D745-454B-9453-F79B0C8E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0AB2972-191C-48B4-B981-D6FC0274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86B04-90FA-4272-8379-C4A2E805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7AE23CE-803B-4B00-9DAD-3C9A3F67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102D6D0-1619-42AB-8446-7181A06F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FA3BCBC-70C8-4D8A-A157-99F63C4C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CD27E39-DF85-4433-A5FF-4311FD3F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F35E25F-C8D9-4E7C-BF56-FB163499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DF81793-A283-4878-94D4-C2EB844B7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F70F0B5-C25B-4841-943C-5212E8254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1B4DB-704F-4F46-8A63-6946388F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E7080-C666-4B6F-90D8-AAB512EE1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D505-2B15-4402-B9BB-02C68674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79865-2230-4F1D-9DEB-21D47DF37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35FAC-23E9-4A35-95EE-A62219D2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FCDC2-A734-4B89-B14F-56D5C0C2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9E192-7B74-4DE2-850B-C8D417BB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21E25-4607-4E91-986C-E349313C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74261-1041-4501-91C7-E59C986E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E405D-A5D5-449D-85E1-6911CDE9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9A821-1951-4DC6-92A5-4538A9DD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1172F-55D4-4507-A455-108A5252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07DD4-196A-41DB-B4F2-0543F9CF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FAFD-1600-43D5-B246-857CD03E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7C657-9CBE-42E0-81F9-3678948D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55956-44EE-4616-853C-173C9C2AA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ECC7B-61E9-485A-B82E-9A251DB37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D52C6-5F15-4E3C-A116-3C50D6A60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D5922-D32A-4611-95A4-2DEA1E53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0A04E-0F6D-46C2-ADF0-1D1AAFA8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CEA2F-1A2E-4F06-85C9-35EE8D41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B63FB-5115-404A-96A8-31269DE7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F0293-1CE9-4B76-A79A-304CE978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42FB3-6B08-4619-B398-D267D012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2D22-54BC-4E82-98A1-AAD1E6E4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DC12B-7FA4-41AC-85E7-834401A2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A9E73-8D02-45BC-9DA4-28A9C517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34244-D911-466A-966F-CEB87F95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F40D0-D242-496E-9D92-C4DB9648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962FD-D8AA-405B-9CC5-1499E30A7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9F277-EBA6-4A04-A636-E931505B0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8C2BE-D953-4551-AF74-1CEADC9A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EAF7D-554C-46CE-BD05-581F25B4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54CC3-4AAF-40D0-A977-AC636B4F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3075B-5E31-4657-80F0-1F8A3A93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FEDC-4731-4C60-99E3-6BE6F945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17AC4-5DD6-41C2-83C5-FBDB4B78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EED62-CC74-40F7-81FB-F7BC7C4F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D92F9-7957-4575-B5EA-923875EE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24CE3-BD76-4A7B-ABD4-FA575DB1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3D42B-825B-4C3E-8AC0-7AD64888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0AA25-7970-41DB-8F0E-92274E035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C8FC9-E997-4D05-BE1C-5D835DB6F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B76D4-8811-4CDF-83A1-F91EB3514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D50A1A-2DD2-4B6F-A1B6-76DBAB11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396D91-E471-4F2E-8C3C-0A4BAC07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EA27-E1FB-42F4-913A-E65179AC88D0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1D12-1FB0-46FF-9166-BBDDE1784DD1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9801-ACC5-4AD9-B4FA-FE0ADBA7EFAA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FDB4-1EA6-4E1F-877F-69C79A7BDEF1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C571-1739-42D2-98D3-5A3A1CFBA02E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937B-D7AA-4D69-B6C0-9813B09B71CC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1075-FA6F-44C4-9B39-66D778403E32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DBC8-C853-4E77-95CD-D3C7D02C8CB3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44C0-F300-4CC6-8F98-1FA180E2C966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1567-C31B-4030-A937-3F25258000B5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2AB8-B2D5-406A-8FBB-4C948A40D0A3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516B-9D40-423C-9798-930CEF39CCFC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EDC3-215B-46C5-A77F-4E162D8383EF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CC7A-6073-405C-A6BC-DA106333E765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C0FB-0B5F-472D-813D-CA49CEBDFD02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726A-F4E7-4E5B-9767-DB00F5518692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E139-EECF-40E9-954D-D4B1E14DA518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B0AB-778C-4550-AAA1-92D287195A87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2B65-74A7-463B-BC20-B0EFBC073BA9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C119-374B-4F8D-A1CE-BEE7C4D2675D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9581-F55E-48AA-8AA0-FEAE68BE1722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0777-E59F-489B-9BEF-8CE37A5CF818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B31B-B12D-42CE-AA6C-18838631B49D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DAA9-F443-439A-BF2A-0A784798B6C7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75C5-27E2-4CCD-8F16-0E0BF48F0128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BBB3-0807-4EC8-87D0-96C27546F824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7C3F-7B6F-49D4-9176-07D45AB09D52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B7E3-3FD3-4F45-AA01-306EF281FD45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890A-ED3B-4819-B790-49224FC47AFE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FF84-AE64-468D-BC65-D2010932484F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5AD8-6387-46A2-A99E-087B79BEBD2F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CDB8-B607-4A1E-8493-6A4B49E80032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83D2-7EA8-47E0-8420-4A8BB7026CE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1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0F1E-4D4E-4714-A614-DBC9F5822847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1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1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F4FD-7F26-4DCB-BFFD-4D7457DD963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F882-6A7F-41B3-B138-A0C8724795AD}" type="datetime">
              <a:rPr b="1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CC93-26DF-49B3-A0C3-1198F3C99D6D}" type="slidenum">
              <a:rPr b="1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1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E743-EADE-4B8F-89EF-EBDCFAC47B58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1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1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18E0-3421-47C3-9F5D-93E19747503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1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6014-0E2A-4D8B-AC04-B1DC68C2146D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1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CAF2-1BE4-4BF5-AF00-F958C5771D8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dt" idx="1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7FCE-FD55-4223-95F3-6872A285810C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ftr" idx="1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sldNum" idx="1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9389-CF83-4483-8D5D-41C3FD8F342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 type="dt" idx="1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6AAD-DF9D-490A-92D1-33C9A0D62F2C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 type="ftr" idx="1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 type="sldNum" idx="1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4CAD-55A8-49FB-999B-EB51D4D993D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 type="dt" idx="1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9F5E-F59A-486A-AE04-346B6976C268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 type="ftr" idx="1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 type="sldNum" idx="1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FDD5-9475-40E2-868A-88DE7AA4055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 type="dt" idx="1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88C2-831C-48F1-89F4-169900EDFBAB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 type="ftr" idx="1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 type="sldNum" idx="1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C0D2-6B49-42DC-8EEB-9EA51280D17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dt" idx="1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EA9A-9D1B-4938-A453-94C2A7A875AE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ftr" idx="1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 type="sldNum" idx="1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ED56-13DC-4A4D-B09C-D12D649AD77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 type="dt" idx="1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B1EF-FBF6-4E35-9453-EF20DA0F1CC0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 type="ftr" idx="1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 type="sldNum" idx="1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8302-AAE1-4752-978A-F5B7007C419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 type="dt" idx="1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D6E6-686F-4CC9-9687-284EDB0756EA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30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 type="ftr" idx="1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 type="sldNum" idx="1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53F0-B55E-4DA5-BE80-85029369A71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4047-9CB8-4556-9603-4D1DD65DE8A8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4141-E4EF-4C6D-A627-7ECDCD1E1C3A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098B-6260-4331-9283-50057437B907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77A9-D99B-438B-BE81-9334FDF746F4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E317-5F8D-4169-AB43-459CAADF80C1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1" name="Picture 4" descr="Picture background"/>
          <p:cNvPicPr/>
          <p:nvPr/>
        </p:nvPicPr>
        <p:blipFill>
          <a:blip r:embed="rId1"/>
          <a:stretch/>
        </p:blipFill>
        <p:spPr>
          <a:xfrm>
            <a:off x="0" y="115920"/>
            <a:ext cx="91393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Прямоугольник 1"/>
          <p:cNvSpPr/>
          <p:nvPr/>
        </p:nvSpPr>
        <p:spPr>
          <a:xfrm>
            <a:off x="108000" y="81000"/>
            <a:ext cx="90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. Из пунктов А и В навстречу друг другу с постоянными скоростями вышли два путника. Первый вышел из А в 7 часов и пришел в В в 13 часов. Второй путник вышел из В в 7 часов и пришел в А в 19 часов. В какое время путники встретились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4" name="Рисунок 2" descr=""/>
          <p:cNvPicPr/>
          <p:nvPr/>
        </p:nvPicPr>
        <p:blipFill>
          <a:blip r:embed="rId1"/>
          <a:stretch/>
        </p:blipFill>
        <p:spPr>
          <a:xfrm>
            <a:off x="108000" y="1328760"/>
            <a:ext cx="4398840" cy="3343320"/>
          </a:xfrm>
          <a:prstGeom prst="rect">
            <a:avLst/>
          </a:prstGeom>
          <a:ln w="0">
            <a:noFill/>
          </a:ln>
        </p:spPr>
      </p:pic>
      <p:sp>
        <p:nvSpPr>
          <p:cNvPr id="2085" name="Прямоугольник 3"/>
          <p:cNvSpPr/>
          <p:nvPr/>
        </p:nvSpPr>
        <p:spPr>
          <a:xfrm>
            <a:off x="4560840" y="123336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мотрим траектории движения путников. Расстояние от А до В неизвестно, поэтому на оси расстояний отложим любой отрез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оси времени возьмем масштаб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 см ↔ 1 ч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Соединив отрезком прямой точки начала и конца пути каждого путника, получим траектории их движения. Точка пересечения этих траекторий, которую мы обозначим буквой С, соответствует моменту встре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Прямоугольник 4"/>
          <p:cNvSpPr/>
          <p:nvPr/>
        </p:nvSpPr>
        <p:spPr>
          <a:xfrm>
            <a:off x="162000" y="4997520"/>
            <a:ext cx="876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Спроецировав точку С на ось времени, получим время встречи - 11 часов. Следовательно, встреча путников произойдет в 11 часов того же дн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: в 11 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Прямоугольник 1"/>
          <p:cNvSpPr/>
          <p:nvPr/>
        </p:nvSpPr>
        <p:spPr>
          <a:xfrm>
            <a:off x="216000" y="14400"/>
            <a:ext cx="89280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а 1. </a:t>
            </a:r>
            <a:r>
              <a:rPr b="1" lang="ru-RU" sz="1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Из пункта А в пункт В выехал мотоциклист и одновременно из В в А выехал автомобилист. Мотоциклист прибыл в В через 2 часа после встречи, а автомобилист в А через 30 минут после встречи. Сколько часов был в пути мотоциклис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Прямоугольник 3"/>
          <p:cNvSpPr/>
          <p:nvPr/>
        </p:nvSpPr>
        <p:spPr>
          <a:xfrm>
            <a:off x="223920" y="1901880"/>
            <a:ext cx="855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м алгебраический способ решения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 ВСТ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9" name="Рисунок 33" descr="Picture background"/>
          <p:cNvPicPr/>
          <p:nvPr/>
        </p:nvPicPr>
        <p:blipFill>
          <a:blip r:embed="rId1"/>
          <a:srcRect l="8015" t="4790" r="14269" b="5850"/>
          <a:stretch/>
        </p:blipFill>
        <p:spPr>
          <a:xfrm>
            <a:off x="201600" y="2825640"/>
            <a:ext cx="1454040" cy="1297080"/>
          </a:xfrm>
          <a:prstGeom prst="rect">
            <a:avLst/>
          </a:prstGeom>
          <a:ln w="0">
            <a:noFill/>
          </a:ln>
        </p:spPr>
      </p:pic>
      <p:pic>
        <p:nvPicPr>
          <p:cNvPr id="2090" name="Рисунок 34" descr="C:\Users\Irina\Downloads\машина.jpeg"/>
          <p:cNvPicPr/>
          <p:nvPr/>
        </p:nvPicPr>
        <p:blipFill>
          <a:blip r:embed="rId2"/>
          <a:stretch/>
        </p:blipFill>
        <p:spPr>
          <a:xfrm>
            <a:off x="7113600" y="2809800"/>
            <a:ext cx="1951200" cy="1225800"/>
          </a:xfrm>
          <a:prstGeom prst="rect">
            <a:avLst/>
          </a:prstGeom>
          <a:ln w="0">
            <a:noFill/>
          </a:ln>
        </p:spPr>
      </p:pic>
      <p:sp>
        <p:nvSpPr>
          <p:cNvPr id="2091" name="Волна 35"/>
          <p:cNvSpPr/>
          <p:nvPr/>
        </p:nvSpPr>
        <p:spPr>
          <a:xfrm>
            <a:off x="4013280" y="3755880"/>
            <a:ext cx="828720" cy="868680"/>
          </a:xfrm>
          <a:custGeom>
            <a:avLst/>
            <a:gdLst>
              <a:gd name="textAreaLeft" fmla="*/ 19080 w 828720"/>
              <a:gd name="textAreaRight" fmla="*/ 809640 w 828720"/>
              <a:gd name="textAreaTop" fmla="*/ 217080 h 868680"/>
              <a:gd name="textAreaBottom" fmla="*/ 651600 h 8686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6949" y="-6865"/>
                  <a:pt x="14149" y="12265"/>
                  <a:pt x="21098" y="2700"/>
                </a:cubicBezTo>
                <a:lnTo>
                  <a:pt x="21600" y="18900"/>
                </a:lnTo>
                <a:cubicBezTo>
                  <a:pt x="14651" y="28465"/>
                  <a:pt x="7451" y="9335"/>
                  <a:pt x="502" y="18900"/>
                </a:cubicBezTo>
                <a:close/>
              </a:path>
            </a:pathLst>
          </a:custGeom>
          <a:solidFill>
            <a:srgbClr val="3b87d4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Прямая соединительная линия 37"/>
          <p:cNvSpPr/>
          <p:nvPr/>
        </p:nvSpPr>
        <p:spPr>
          <a:xfrm flipH="1">
            <a:off x="4033440" y="4486320"/>
            <a:ext cx="9720" cy="900000"/>
          </a:xfrm>
          <a:prstGeom prst="line">
            <a:avLst/>
          </a:prstGeom>
          <a:ln w="19080">
            <a:solidFill>
              <a:srgbClr val="3b87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3" name="Прямая со стрелкой 39"/>
          <p:cNvCxnSpPr/>
          <p:nvPr/>
        </p:nvCxnSpPr>
        <p:spPr>
          <a:xfrm flipV="1">
            <a:off x="968400" y="4698720"/>
            <a:ext cx="1512000" cy="8640"/>
          </a:xfrm>
          <a:prstGeom prst="straightConnector1">
            <a:avLst/>
          </a:prstGeom>
          <a:ln w="19080">
            <a:solidFill>
              <a:srgbClr val="3b87d4"/>
            </a:solidFill>
            <a:miter/>
            <a:tailEnd len="med" type="triangle" w="med"/>
          </a:ln>
        </p:spPr>
      </p:cxnSp>
      <p:cxnSp>
        <p:nvCxnSpPr>
          <p:cNvPr id="2094" name="Прямая со стрелкой 41"/>
          <p:cNvCxnSpPr/>
          <p:nvPr/>
        </p:nvCxnSpPr>
        <p:spPr>
          <a:xfrm flipH="1">
            <a:off x="6476760" y="4707000"/>
            <a:ext cx="2015280" cy="8640"/>
          </a:xfrm>
          <a:prstGeom prst="straightConnector1">
            <a:avLst/>
          </a:prstGeom>
          <a:ln w="19080">
            <a:solidFill>
              <a:srgbClr val="3b87d4"/>
            </a:solidFill>
            <a:miter/>
            <a:tailEnd len="med" type="triangle" w="med"/>
          </a:ln>
        </p:spPr>
      </p:cxnSp>
      <p:sp>
        <p:nvSpPr>
          <p:cNvPr id="2095" name="Прямая соединительная линия 43"/>
          <p:cNvSpPr/>
          <p:nvPr/>
        </p:nvSpPr>
        <p:spPr>
          <a:xfrm>
            <a:off x="968400" y="5408640"/>
            <a:ext cx="7523280" cy="0"/>
          </a:xfrm>
          <a:prstGeom prst="line">
            <a:avLst/>
          </a:prstGeom>
          <a:ln w="19080">
            <a:solidFill>
              <a:srgbClr val="3b87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6" name="Прямая со стрелкой 47"/>
          <p:cNvCxnSpPr/>
          <p:nvPr/>
        </p:nvCxnSpPr>
        <p:spPr>
          <a:xfrm>
            <a:off x="4029120" y="5984640"/>
            <a:ext cx="4463280" cy="1080"/>
          </a:xfrm>
          <a:prstGeom prst="straightConnector1">
            <a:avLst/>
          </a:prstGeom>
          <a:ln w="19080">
            <a:solidFill>
              <a:srgbClr val="3b87d4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97" name="Прямая со стрелкой 49"/>
          <p:cNvCxnSpPr/>
          <p:nvPr/>
        </p:nvCxnSpPr>
        <p:spPr>
          <a:xfrm>
            <a:off x="968400" y="5984640"/>
            <a:ext cx="3061440" cy="1080"/>
          </a:xfrm>
          <a:prstGeom prst="straightConnector1">
            <a:avLst/>
          </a:prstGeom>
          <a:ln w="19080">
            <a:solidFill>
              <a:srgbClr val="3b87d4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98" name="Прямоугольник 16"/>
          <p:cNvSpPr/>
          <p:nvPr/>
        </p:nvSpPr>
        <p:spPr>
          <a:xfrm>
            <a:off x="943200" y="4227480"/>
            <a:ext cx="83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Прямоугольник 17"/>
          <p:cNvSpPr/>
          <p:nvPr/>
        </p:nvSpPr>
        <p:spPr>
          <a:xfrm>
            <a:off x="7090560" y="4219560"/>
            <a:ext cx="83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Прямоугольник 18"/>
          <p:cNvSpPr/>
          <p:nvPr/>
        </p:nvSpPr>
        <p:spPr>
          <a:xfrm>
            <a:off x="4156200" y="3989520"/>
            <a:ext cx="5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Прямоугольник 19"/>
          <p:cNvSpPr/>
          <p:nvPr/>
        </p:nvSpPr>
        <p:spPr>
          <a:xfrm>
            <a:off x="642600" y="5172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Прямоугольник 20"/>
          <p:cNvSpPr/>
          <p:nvPr/>
        </p:nvSpPr>
        <p:spPr>
          <a:xfrm>
            <a:off x="8446320" y="5172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Прямоугольник 21"/>
          <p:cNvSpPr/>
          <p:nvPr/>
        </p:nvSpPr>
        <p:spPr>
          <a:xfrm>
            <a:off x="2301120" y="6075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Прямоугольник 22"/>
          <p:cNvSpPr/>
          <p:nvPr/>
        </p:nvSpPr>
        <p:spPr>
          <a:xfrm>
            <a:off x="6114960" y="6111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Прямоугольник 19"/>
          <p:cNvSpPr/>
          <p:nvPr/>
        </p:nvSpPr>
        <p:spPr>
          <a:xfrm>
            <a:off x="3839040" y="5354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2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2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2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2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6" name="Рисунок 15" descr=""/>
          <p:cNvPicPr/>
          <p:nvPr/>
        </p:nvPicPr>
        <p:blipFill>
          <a:blip r:embed="rId1"/>
          <a:stretch/>
        </p:blipFill>
        <p:spPr>
          <a:xfrm>
            <a:off x="76320" y="1857240"/>
            <a:ext cx="8991360" cy="3143520"/>
          </a:xfrm>
          <a:prstGeom prst="rect">
            <a:avLst/>
          </a:prstGeom>
          <a:ln w="0">
            <a:noFill/>
          </a:ln>
        </p:spPr>
      </p:pic>
      <p:sp>
        <p:nvSpPr>
          <p:cNvPr id="2107" name="Прямоугольник 9"/>
          <p:cNvSpPr/>
          <p:nvPr/>
        </p:nvSpPr>
        <p:spPr>
          <a:xfrm>
            <a:off x="3243240" y="2637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Прямоугольник 10"/>
          <p:cNvSpPr/>
          <p:nvPr/>
        </p:nvSpPr>
        <p:spPr>
          <a:xfrm>
            <a:off x="5511240" y="26892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Прямоугольник 11"/>
          <p:cNvSpPr/>
          <p:nvPr/>
        </p:nvSpPr>
        <p:spPr>
          <a:xfrm>
            <a:off x="7600320" y="267804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Прямоугольник 12"/>
          <p:cNvSpPr/>
          <p:nvPr/>
        </p:nvSpPr>
        <p:spPr>
          <a:xfrm>
            <a:off x="3243240" y="3819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Прямоугольник 13"/>
          <p:cNvSpPr/>
          <p:nvPr/>
        </p:nvSpPr>
        <p:spPr>
          <a:xfrm>
            <a:off x="7591320" y="381960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Прямоугольник 14"/>
          <p:cNvSpPr/>
          <p:nvPr/>
        </p:nvSpPr>
        <p:spPr>
          <a:xfrm>
            <a:off x="5515920" y="389736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Прямоугольник 1"/>
          <p:cNvSpPr/>
          <p:nvPr/>
        </p:nvSpPr>
        <p:spPr>
          <a:xfrm>
            <a:off x="216000" y="14400"/>
            <a:ext cx="89280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а 1. </a:t>
            </a:r>
            <a:r>
              <a:rPr b="1" lang="ru-RU" sz="1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Из пункта А в пункт В выехал мотоциклист и одновременно из В в А выехал автомобилист. Мотоциклист прибыл в В через 2 часа после встречи, а автомобилист в А через 30 минут после встречи. Сколько часов был в пути мотоциклис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2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2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2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2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2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4" name="Рисунок 36" descr="C:\Users\Irina\Downloads\машина.jpeg"/>
          <p:cNvPicPr/>
          <p:nvPr/>
        </p:nvPicPr>
        <p:blipFill>
          <a:blip r:embed="rId1"/>
          <a:stretch/>
        </p:blipFill>
        <p:spPr>
          <a:xfrm>
            <a:off x="1311120" y="1322280"/>
            <a:ext cx="1822680" cy="1182960"/>
          </a:xfrm>
          <a:prstGeom prst="rect">
            <a:avLst/>
          </a:prstGeom>
          <a:ln w="0">
            <a:noFill/>
          </a:ln>
        </p:spPr>
      </p:pic>
      <p:sp>
        <p:nvSpPr>
          <p:cNvPr id="2115" name="Прямоугольник 1"/>
          <p:cNvSpPr/>
          <p:nvPr/>
        </p:nvSpPr>
        <p:spPr>
          <a:xfrm>
            <a:off x="3176280" y="152280"/>
            <a:ext cx="24163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ВСТ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6" name="Рисунок 38" descr="Picture background"/>
          <p:cNvPicPr/>
          <p:nvPr/>
        </p:nvPicPr>
        <p:blipFill>
          <a:blip r:embed="rId2"/>
          <a:srcRect l="8015" t="4793" r="14269" b="5893"/>
          <a:stretch/>
        </p:blipFill>
        <p:spPr>
          <a:xfrm>
            <a:off x="4132440" y="1293840"/>
            <a:ext cx="1427040" cy="1150920"/>
          </a:xfrm>
          <a:prstGeom prst="rect">
            <a:avLst/>
          </a:prstGeom>
          <a:ln w="0">
            <a:noFill/>
          </a:ln>
        </p:spPr>
      </p:pic>
      <p:sp>
        <p:nvSpPr>
          <p:cNvPr id="2117" name="Волна 39"/>
          <p:cNvSpPr/>
          <p:nvPr/>
        </p:nvSpPr>
        <p:spPr>
          <a:xfrm>
            <a:off x="3319560" y="1566720"/>
            <a:ext cx="739800" cy="804960"/>
          </a:xfrm>
          <a:custGeom>
            <a:avLst/>
            <a:gdLst>
              <a:gd name="textAreaLeft" fmla="*/ 16920 w 739800"/>
              <a:gd name="textAreaRight" fmla="*/ 722880 w 739800"/>
              <a:gd name="textAreaTop" fmla="*/ 201240 h 804960"/>
              <a:gd name="textAreaBottom" fmla="*/ 603720 h 8049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6949" y="-6865"/>
                  <a:pt x="14149" y="12265"/>
                  <a:pt x="21098" y="2700"/>
                </a:cubicBezTo>
                <a:lnTo>
                  <a:pt x="21600" y="18900"/>
                </a:lnTo>
                <a:cubicBezTo>
                  <a:pt x="14651" y="28465"/>
                  <a:pt x="7451" y="9335"/>
                  <a:pt x="502" y="18900"/>
                </a:cubicBezTo>
                <a:close/>
              </a:path>
            </a:pathLst>
          </a:custGeom>
          <a:solidFill>
            <a:srgbClr val="3b87d4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8" name="Прямая со стрелкой 40"/>
          <p:cNvCxnSpPr/>
          <p:nvPr/>
        </p:nvCxnSpPr>
        <p:spPr>
          <a:xfrm flipH="1">
            <a:off x="1152000" y="2862000"/>
            <a:ext cx="2015280" cy="6840"/>
          </a:xfrm>
          <a:prstGeom prst="straightConnector1">
            <a:avLst/>
          </a:prstGeom>
          <a:ln w="19080">
            <a:solidFill>
              <a:srgbClr val="3b87d4"/>
            </a:solidFill>
            <a:miter/>
            <a:tailEnd len="med" type="triangle" w="med"/>
          </a:ln>
        </p:spPr>
      </p:cxnSp>
      <p:sp>
        <p:nvSpPr>
          <p:cNvPr id="2119" name="Прямая соединительная линия 41"/>
          <p:cNvSpPr/>
          <p:nvPr/>
        </p:nvSpPr>
        <p:spPr>
          <a:xfrm flipH="1">
            <a:off x="3338640" y="2246400"/>
            <a:ext cx="9360" cy="900000"/>
          </a:xfrm>
          <a:prstGeom prst="line">
            <a:avLst/>
          </a:prstGeom>
          <a:ln w="19080">
            <a:solidFill>
              <a:srgbClr val="3b87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0" name="Прямая со стрелкой 42"/>
          <p:cNvCxnSpPr/>
          <p:nvPr/>
        </p:nvCxnSpPr>
        <p:spPr>
          <a:xfrm flipV="1">
            <a:off x="3656160" y="2848680"/>
            <a:ext cx="1512000" cy="9000"/>
          </a:xfrm>
          <a:prstGeom prst="straightConnector1">
            <a:avLst/>
          </a:prstGeom>
          <a:ln w="19080">
            <a:solidFill>
              <a:srgbClr val="3b87d4"/>
            </a:solidFill>
            <a:miter/>
            <a:tailEnd len="med" type="triangle" w="med"/>
          </a:ln>
        </p:spPr>
      </p:cxnSp>
      <p:sp>
        <p:nvSpPr>
          <p:cNvPr id="2121" name="Прямая соединительная линия 43"/>
          <p:cNvSpPr/>
          <p:nvPr/>
        </p:nvSpPr>
        <p:spPr>
          <a:xfrm>
            <a:off x="312840" y="3170160"/>
            <a:ext cx="7524720" cy="0"/>
          </a:xfrm>
          <a:prstGeom prst="line">
            <a:avLst/>
          </a:prstGeom>
          <a:ln w="19080">
            <a:solidFill>
              <a:srgbClr val="3b87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2" name="Прямая со стрелкой 44"/>
          <p:cNvCxnSpPr/>
          <p:nvPr/>
        </p:nvCxnSpPr>
        <p:spPr>
          <a:xfrm>
            <a:off x="3362400" y="3392280"/>
            <a:ext cx="4512240" cy="1080"/>
          </a:xfrm>
          <a:prstGeom prst="straightConnector1">
            <a:avLst/>
          </a:prstGeom>
          <a:ln w="19080">
            <a:solidFill>
              <a:srgbClr val="3b87d4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23" name="Прямая со стрелкой 45"/>
          <p:cNvCxnSpPr/>
          <p:nvPr/>
        </p:nvCxnSpPr>
        <p:spPr>
          <a:xfrm>
            <a:off x="262080" y="3381120"/>
            <a:ext cx="3101040" cy="11880"/>
          </a:xfrm>
          <a:prstGeom prst="straightConnector1">
            <a:avLst/>
          </a:prstGeom>
          <a:ln w="19080">
            <a:solidFill>
              <a:srgbClr val="3b87d4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24" name="Прямоугольник 7"/>
          <p:cNvSpPr/>
          <p:nvPr/>
        </p:nvSpPr>
        <p:spPr>
          <a:xfrm>
            <a:off x="89280" y="3024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Прямоугольник 8"/>
          <p:cNvSpPr/>
          <p:nvPr/>
        </p:nvSpPr>
        <p:spPr>
          <a:xfrm>
            <a:off x="7828920" y="3024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Прямоугольник 9"/>
          <p:cNvSpPr/>
          <p:nvPr/>
        </p:nvSpPr>
        <p:spPr>
          <a:xfrm>
            <a:off x="1470960" y="2495520"/>
            <a:ext cx="83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Прямоугольник 10"/>
          <p:cNvSpPr/>
          <p:nvPr/>
        </p:nvSpPr>
        <p:spPr>
          <a:xfrm>
            <a:off x="2976480" y="242712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Прямоугольник 11"/>
          <p:cNvSpPr/>
          <p:nvPr/>
        </p:nvSpPr>
        <p:spPr>
          <a:xfrm>
            <a:off x="919080" y="34513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Прямоугольник 12"/>
          <p:cNvSpPr/>
          <p:nvPr/>
        </p:nvSpPr>
        <p:spPr>
          <a:xfrm>
            <a:off x="5111640" y="34513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Прямоугольник 17"/>
          <p:cNvSpPr/>
          <p:nvPr/>
        </p:nvSpPr>
        <p:spPr>
          <a:xfrm>
            <a:off x="2131200" y="308304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1" name="Рисунок 1" descr=""/>
          <p:cNvPicPr/>
          <p:nvPr/>
        </p:nvPicPr>
        <p:blipFill>
          <a:blip r:embed="rId3"/>
          <a:stretch/>
        </p:blipFill>
        <p:spPr>
          <a:xfrm>
            <a:off x="133200" y="3800520"/>
            <a:ext cx="8896680" cy="3029040"/>
          </a:xfrm>
          <a:prstGeom prst="rect">
            <a:avLst/>
          </a:prstGeom>
          <a:ln w="0">
            <a:noFill/>
          </a:ln>
        </p:spPr>
      </p:pic>
      <p:sp>
        <p:nvSpPr>
          <p:cNvPr id="2132" name="TextBox 19"/>
          <p:cNvSpPr/>
          <p:nvPr/>
        </p:nvSpPr>
        <p:spPr>
          <a:xfrm>
            <a:off x="3227400" y="46497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TextBox 20"/>
          <p:cNvSpPr/>
          <p:nvPr/>
        </p:nvSpPr>
        <p:spPr>
          <a:xfrm>
            <a:off x="3222720" y="58197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TextBox 21"/>
          <p:cNvSpPr/>
          <p:nvPr/>
        </p:nvSpPr>
        <p:spPr>
          <a:xfrm>
            <a:off x="7380360" y="4707000"/>
            <a:ext cx="61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TextBox 22"/>
          <p:cNvSpPr/>
          <p:nvPr/>
        </p:nvSpPr>
        <p:spPr>
          <a:xfrm>
            <a:off x="7380360" y="5907240"/>
            <a:ext cx="61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6" name="Объект 23"/>
              <p:cNvSpPr txBox="1"/>
              <p:nvPr/>
            </p:nvSpPr>
            <p:spPr>
              <a:xfrm>
                <a:off x="5067360" y="4560840"/>
                <a:ext cx="53496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yt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7" name="Объект 24"/>
              <p:cNvSpPr txBox="1"/>
              <p:nvPr/>
            </p:nvSpPr>
            <p:spPr>
              <a:xfrm>
                <a:off x="5108400" y="5713560"/>
                <a:ext cx="53208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xt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38" name="Rectangle 42"/>
          <p:cNvSpPr/>
          <p:nvPr/>
        </p:nvSpPr>
        <p:spPr>
          <a:xfrm>
            <a:off x="5563080" y="488520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9" name="Объект 26"/>
              <p:cNvSpPr txBox="1"/>
              <p:nvPr/>
            </p:nvSpPr>
            <p:spPr>
              <a:xfrm>
                <a:off x="5842080" y="5746680"/>
                <a:ext cx="39852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0" name="TextBox 27"/>
          <p:cNvSpPr/>
          <p:nvPr/>
        </p:nvSpPr>
        <p:spPr>
          <a:xfrm>
            <a:off x="5573880" y="6070680"/>
            <a:ext cx="3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1" name="Рисунок 6" descr=""/>
          <p:cNvPicPr/>
          <p:nvPr/>
        </p:nvPicPr>
        <p:blipFill>
          <a:blip r:embed="rId4"/>
          <a:stretch/>
        </p:blipFill>
        <p:spPr>
          <a:xfrm>
            <a:off x="282600" y="3890880"/>
            <a:ext cx="200988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2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2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2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2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2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2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2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2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2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2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2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2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2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TextBox 10"/>
          <p:cNvSpPr/>
          <p:nvPr/>
        </p:nvSpPr>
        <p:spPr>
          <a:xfrm>
            <a:off x="789120" y="2319480"/>
            <a:ext cx="225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,  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TextBox 20"/>
          <p:cNvSpPr/>
          <p:nvPr/>
        </p:nvSpPr>
        <p:spPr>
          <a:xfrm>
            <a:off x="7236000" y="4481640"/>
            <a:ext cx="185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Rectangle 51"/>
          <p:cNvSpPr/>
          <p:nvPr/>
        </p:nvSpPr>
        <p:spPr>
          <a:xfrm>
            <a:off x="6075360" y="386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5" name="Объект 2"/>
              <p:cNvSpPr txBox="1"/>
              <p:nvPr/>
            </p:nvSpPr>
            <p:spPr>
              <a:xfrm>
                <a:off x="412920" y="2022480"/>
                <a:ext cx="5108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yt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6" name="Объект 5"/>
              <p:cNvSpPr txBox="1"/>
              <p:nvPr/>
            </p:nvSpPr>
            <p:spPr>
              <a:xfrm>
                <a:off x="2044800" y="2852640"/>
                <a:ext cx="122220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7" name="Объект 6"/>
              <p:cNvSpPr txBox="1"/>
              <p:nvPr/>
            </p:nvSpPr>
            <p:spPr>
              <a:xfrm>
                <a:off x="3487680" y="2943360"/>
                <a:ext cx="107316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8" name="Левая фигурная скобка 24"/>
          <p:cNvSpPr/>
          <p:nvPr/>
        </p:nvSpPr>
        <p:spPr>
          <a:xfrm>
            <a:off x="50760" y="2187720"/>
            <a:ext cx="495360" cy="1852560"/>
          </a:xfrm>
          <a:custGeom>
            <a:avLst/>
            <a:gdLst>
              <a:gd name="textAreaLeft" fmla="*/ 316440 w 495360"/>
              <a:gd name="textAreaRight" fmla="*/ 495720 w 495360"/>
              <a:gd name="textAreaTop" fmla="*/ 12600 h 1852560"/>
              <a:gd name="textAreaBottom" fmla="*/ 1839960 h 185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1"/>
                  <a:pt x="10800" y="481"/>
                </a:cubicBezTo>
                <a:lnTo>
                  <a:pt x="10800" y="10319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1"/>
                  <a:pt x="10800" y="11281"/>
                </a:cubicBezTo>
                <a:lnTo>
                  <a:pt x="10800" y="21119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Rectangle 37"/>
          <p:cNvSpPr/>
          <p:nvPr/>
        </p:nvSpPr>
        <p:spPr>
          <a:xfrm>
            <a:off x="4591080" y="3225240"/>
            <a:ext cx="20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  у =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Rectangle 38"/>
          <p:cNvSpPr/>
          <p:nvPr/>
        </p:nvSpPr>
        <p:spPr>
          <a:xfrm>
            <a:off x="3191040" y="4420800"/>
            <a:ext cx="13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1" name="Объект 34"/>
              <p:cNvSpPr txBox="1"/>
              <p:nvPr/>
            </p:nvSpPr>
            <p:spPr>
              <a:xfrm>
                <a:off x="412920" y="2919240"/>
                <a:ext cx="53172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xt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2" name="TextBox 35"/>
          <p:cNvSpPr/>
          <p:nvPr/>
        </p:nvSpPr>
        <p:spPr>
          <a:xfrm>
            <a:off x="941400" y="3274920"/>
            <a:ext cx="33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3" name="Объект 40"/>
              <p:cNvSpPr txBox="1"/>
              <p:nvPr/>
            </p:nvSpPr>
            <p:spPr>
              <a:xfrm>
                <a:off x="1306440" y="2963880"/>
                <a:ext cx="39852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2154" name="Прямая со стрелкой 21"/>
          <p:cNvCxnSpPr/>
          <p:nvPr/>
        </p:nvCxnSpPr>
        <p:spPr>
          <a:xfrm flipV="1">
            <a:off x="6271920" y="3453840"/>
            <a:ext cx="562680" cy="108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5" name="Прямоугольник 23"/>
          <p:cNvSpPr/>
          <p:nvPr/>
        </p:nvSpPr>
        <p:spPr>
          <a:xfrm>
            <a:off x="7012080" y="327672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: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Rectangle 5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7" name="Объект 28"/>
              <p:cNvSpPr txBox="1"/>
              <p:nvPr/>
            </p:nvSpPr>
            <p:spPr>
              <a:xfrm>
                <a:off x="1996920" y="4200480"/>
                <a:ext cx="119412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хt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8" name="Прямоугольник 31"/>
          <p:cNvSpPr/>
          <p:nvPr/>
        </p:nvSpPr>
        <p:spPr>
          <a:xfrm>
            <a:off x="3194640" y="3290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Прямоугольник 49"/>
          <p:cNvSpPr/>
          <p:nvPr/>
        </p:nvSpPr>
        <p:spPr>
          <a:xfrm>
            <a:off x="1638720" y="33624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Прямоугольник 45"/>
          <p:cNvSpPr/>
          <p:nvPr/>
        </p:nvSpPr>
        <p:spPr>
          <a:xfrm>
            <a:off x="485640" y="5456160"/>
            <a:ext cx="775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+ 2 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+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(ч) - потратил мотоциклист на дор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Прямоугольник 1"/>
          <p:cNvSpPr/>
          <p:nvPr/>
        </p:nvSpPr>
        <p:spPr>
          <a:xfrm>
            <a:off x="46080" y="131760"/>
            <a:ext cx="909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а 1. </a:t>
            </a:r>
            <a:r>
              <a:rPr b="1" lang="ru-RU" sz="1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Из пункта А в пункт В выехал мотоциклист и одновременно из В в А выехал автомобилист. Мотоциклист прибыл в В через 2 часа после встречи, а автомобилист в А через 30 минут после встречи. Сколько часов был в пути мотоциклис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2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2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2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TextBox 3"/>
          <p:cNvSpPr/>
          <p:nvPr/>
        </p:nvSpPr>
        <p:spPr>
          <a:xfrm>
            <a:off x="0" y="-792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ункта А в пункт В выехал мотоциклист и одновременно из В в А выехал автомобилист. Мотоциклист прибыл в В через 2 часа после встречи, а автомобилист в А через 30 минут после встречи. Сколько часов был в пути мотоциклис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3" name="Прямая со стрелкой 4"/>
          <p:cNvCxnSpPr>
            <a:endCxn id="2164" idx="3"/>
          </p:cNvCxnSpPr>
          <p:nvPr/>
        </p:nvCxnSpPr>
        <p:spPr>
          <a:xfrm flipV="1">
            <a:off x="1956960" y="1778760"/>
            <a:ext cx="26280" cy="3398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5" name="Прямая со стрелкой 8"/>
          <p:cNvCxnSpPr/>
          <p:nvPr/>
        </p:nvCxnSpPr>
        <p:spPr>
          <a:xfrm>
            <a:off x="1956960" y="5155920"/>
            <a:ext cx="5630040" cy="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6" name="Прямая соединительная линия 12"/>
          <p:cNvSpPr/>
          <p:nvPr/>
        </p:nvSpPr>
        <p:spPr>
          <a:xfrm flipH="1">
            <a:off x="1957320" y="2131920"/>
            <a:ext cx="5005440" cy="3030480"/>
          </a:xfrm>
          <a:prstGeom prst="line">
            <a:avLst/>
          </a:prstGeom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Прямая соединительная линия 14"/>
          <p:cNvSpPr/>
          <p:nvPr/>
        </p:nvSpPr>
        <p:spPr>
          <a:xfrm>
            <a:off x="1957320" y="2100240"/>
            <a:ext cx="5005440" cy="19080"/>
          </a:xfrm>
          <a:prstGeom prst="line">
            <a:avLst/>
          </a:prstGeom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Прямая соединительная линия 17"/>
          <p:cNvSpPr/>
          <p:nvPr/>
        </p:nvSpPr>
        <p:spPr>
          <a:xfrm>
            <a:off x="1957320" y="2108160"/>
            <a:ext cx="2919600" cy="3068640"/>
          </a:xfrm>
          <a:prstGeom prst="line">
            <a:avLst/>
          </a:prstGeom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Прямая соединительная линия 20"/>
          <p:cNvSpPr/>
          <p:nvPr/>
        </p:nvSpPr>
        <p:spPr>
          <a:xfrm flipH="1" flipV="1">
            <a:off x="3816360" y="2114640"/>
            <a:ext cx="6480" cy="3031920"/>
          </a:xfrm>
          <a:prstGeom prst="line">
            <a:avLst/>
          </a:prstGeom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Дуга 51"/>
          <p:cNvSpPr/>
          <p:nvPr/>
        </p:nvSpPr>
        <p:spPr>
          <a:xfrm>
            <a:off x="3556080" y="3570120"/>
            <a:ext cx="538200" cy="576360"/>
          </a:xfrm>
          <a:custGeom>
            <a:avLst/>
            <a:gdLst/>
            <a:ahLst/>
            <a:rect l="l" t="t" r="r" b="b"/>
            <a:pathLst>
              <a:path stroke="0" w="538163" h="576262">
                <a:moveTo>
                  <a:pt x="269081" y="0"/>
                </a:moveTo>
                <a:cubicBezTo>
                  <a:pt x="349622" y="0"/>
                  <a:pt x="425927" y="38631"/>
                  <a:pt x="477038" y="105283"/>
                </a:cubicBezTo>
                <a:cubicBezTo>
                  <a:pt x="523631" y="166042"/>
                  <a:pt x="545014" y="244549"/>
                  <a:pt x="536230" y="322602"/>
                </a:cubicBezTo>
                <a:lnTo>
                  <a:pt x="269082" y="288131"/>
                </a:lnTo>
                <a:cubicBezTo>
                  <a:pt x="269082" y="192087"/>
                  <a:pt x="269081" y="96044"/>
                  <a:pt x="269081" y="0"/>
                </a:cubicBezTo>
                <a:close/>
              </a:path>
              <a:path fill="none" w="538163" h="576262">
                <a:moveTo>
                  <a:pt x="269081" y="0"/>
                </a:moveTo>
                <a:cubicBezTo>
                  <a:pt x="349622" y="0"/>
                  <a:pt x="425927" y="38631"/>
                  <a:pt x="477038" y="105283"/>
                </a:cubicBezTo>
                <a:cubicBezTo>
                  <a:pt x="523631" y="166042"/>
                  <a:pt x="545014" y="244549"/>
                  <a:pt x="536230" y="322602"/>
                </a:cubicBezTo>
              </a:path>
            </a:pathLst>
          </a:custGeom>
          <a:noFill/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Дуга 52"/>
          <p:cNvSpPr/>
          <p:nvPr/>
        </p:nvSpPr>
        <p:spPr>
          <a:xfrm rot="11209800">
            <a:off x="3587400" y="3970080"/>
            <a:ext cx="538200" cy="576000"/>
          </a:xfrm>
          <a:custGeom>
            <a:avLst/>
            <a:gdLst/>
            <a:ahLst/>
            <a:rect l="l" t="t" r="r" b="b"/>
            <a:pathLst>
              <a:path stroke="0" w="538163" h="576262">
                <a:moveTo>
                  <a:pt x="269081" y="0"/>
                </a:moveTo>
                <a:cubicBezTo>
                  <a:pt x="349622" y="0"/>
                  <a:pt x="425927" y="38631"/>
                  <a:pt x="477038" y="105283"/>
                </a:cubicBezTo>
                <a:cubicBezTo>
                  <a:pt x="523631" y="166042"/>
                  <a:pt x="545014" y="244549"/>
                  <a:pt x="536230" y="322602"/>
                </a:cubicBezTo>
                <a:lnTo>
                  <a:pt x="269082" y="288131"/>
                </a:lnTo>
                <a:cubicBezTo>
                  <a:pt x="269082" y="192087"/>
                  <a:pt x="269081" y="96044"/>
                  <a:pt x="269081" y="0"/>
                </a:cubicBezTo>
                <a:close/>
              </a:path>
              <a:path fill="none" w="538163" h="576262">
                <a:moveTo>
                  <a:pt x="269081" y="0"/>
                </a:moveTo>
                <a:cubicBezTo>
                  <a:pt x="349622" y="0"/>
                  <a:pt x="425927" y="38631"/>
                  <a:pt x="477038" y="105283"/>
                </a:cubicBezTo>
                <a:cubicBezTo>
                  <a:pt x="523631" y="166042"/>
                  <a:pt x="545014" y="244549"/>
                  <a:pt x="536230" y="322602"/>
                </a:cubicBezTo>
              </a:path>
            </a:pathLst>
          </a:custGeom>
          <a:noFill/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Дуга 53"/>
          <p:cNvSpPr/>
          <p:nvPr/>
        </p:nvSpPr>
        <p:spPr>
          <a:xfrm rot="6040200">
            <a:off x="3619080" y="4120920"/>
            <a:ext cx="537840" cy="576360"/>
          </a:xfrm>
          <a:custGeom>
            <a:avLst/>
            <a:gdLst/>
            <a:ahLst/>
            <a:rect l="l" t="t" r="r" b="b"/>
            <a:pathLst>
              <a:path stroke="0" w="538163" h="576263">
                <a:moveTo>
                  <a:pt x="269081" y="0"/>
                </a:moveTo>
                <a:cubicBezTo>
                  <a:pt x="349622" y="0"/>
                  <a:pt x="425928" y="38632"/>
                  <a:pt x="477039" y="105284"/>
                </a:cubicBezTo>
                <a:cubicBezTo>
                  <a:pt x="523631" y="166043"/>
                  <a:pt x="545014" y="244550"/>
                  <a:pt x="536231" y="322603"/>
                </a:cubicBezTo>
                <a:lnTo>
                  <a:pt x="269082" y="288132"/>
                </a:lnTo>
                <a:cubicBezTo>
                  <a:pt x="269082" y="192088"/>
                  <a:pt x="269081" y="96044"/>
                  <a:pt x="269081" y="0"/>
                </a:cubicBezTo>
                <a:close/>
              </a:path>
              <a:path fill="none" w="538163" h="576263">
                <a:moveTo>
                  <a:pt x="269081" y="0"/>
                </a:moveTo>
                <a:cubicBezTo>
                  <a:pt x="349622" y="0"/>
                  <a:pt x="425928" y="38632"/>
                  <a:pt x="477039" y="105284"/>
                </a:cubicBezTo>
                <a:cubicBezTo>
                  <a:pt x="523631" y="166043"/>
                  <a:pt x="545014" y="244550"/>
                  <a:pt x="536231" y="322603"/>
                </a:cubicBezTo>
              </a:path>
            </a:pathLst>
          </a:custGeom>
          <a:noFill/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Дуга 54"/>
          <p:cNvSpPr/>
          <p:nvPr/>
        </p:nvSpPr>
        <p:spPr>
          <a:xfrm rot="6040200">
            <a:off x="3605400" y="4118760"/>
            <a:ext cx="595440" cy="819000"/>
          </a:xfrm>
          <a:custGeom>
            <a:avLst/>
            <a:gdLst/>
            <a:ahLst/>
            <a:rect l="l" t="t" r="r" b="b"/>
            <a:pathLst>
              <a:path stroke="0" w="595312" h="819150">
                <a:moveTo>
                  <a:pt x="297656" y="0"/>
                </a:moveTo>
                <a:cubicBezTo>
                  <a:pt x="399227" y="0"/>
                  <a:pt x="493786" y="71267"/>
                  <a:pt x="548478" y="189038"/>
                </a:cubicBezTo>
                <a:cubicBezTo>
                  <a:pt x="584177" y="265912"/>
                  <a:pt x="600202" y="356985"/>
                  <a:pt x="594012" y="447814"/>
                </a:cubicBezTo>
                <a:lnTo>
                  <a:pt x="297656" y="409575"/>
                </a:lnTo>
                <a:lnTo>
                  <a:pt x="297656" y="0"/>
                </a:lnTo>
                <a:close/>
              </a:path>
              <a:path fill="none" w="595312" h="819150">
                <a:moveTo>
                  <a:pt x="297656" y="0"/>
                </a:moveTo>
                <a:cubicBezTo>
                  <a:pt x="399227" y="0"/>
                  <a:pt x="493786" y="71267"/>
                  <a:pt x="548478" y="189038"/>
                </a:cubicBezTo>
                <a:cubicBezTo>
                  <a:pt x="584177" y="265912"/>
                  <a:pt x="600202" y="356985"/>
                  <a:pt x="594012" y="447814"/>
                </a:cubicBezTo>
              </a:path>
            </a:pathLst>
          </a:custGeom>
          <a:noFill/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Дуга 55"/>
          <p:cNvSpPr/>
          <p:nvPr/>
        </p:nvSpPr>
        <p:spPr>
          <a:xfrm rot="17070000">
            <a:off x="3439800" y="3409560"/>
            <a:ext cx="538200" cy="576360"/>
          </a:xfrm>
          <a:custGeom>
            <a:avLst/>
            <a:gdLst/>
            <a:ahLst/>
            <a:rect l="l" t="t" r="r" b="b"/>
            <a:pathLst>
              <a:path stroke="0" w="538163" h="576262">
                <a:moveTo>
                  <a:pt x="269081" y="0"/>
                </a:moveTo>
                <a:cubicBezTo>
                  <a:pt x="349622" y="0"/>
                  <a:pt x="425927" y="38631"/>
                  <a:pt x="477038" y="105283"/>
                </a:cubicBezTo>
                <a:cubicBezTo>
                  <a:pt x="523631" y="166042"/>
                  <a:pt x="545014" y="244549"/>
                  <a:pt x="536230" y="322602"/>
                </a:cubicBezTo>
                <a:lnTo>
                  <a:pt x="269082" y="288131"/>
                </a:lnTo>
                <a:cubicBezTo>
                  <a:pt x="269082" y="192087"/>
                  <a:pt x="269081" y="96044"/>
                  <a:pt x="269081" y="0"/>
                </a:cubicBezTo>
                <a:close/>
              </a:path>
              <a:path fill="none" w="538163" h="576262">
                <a:moveTo>
                  <a:pt x="269081" y="0"/>
                </a:moveTo>
                <a:cubicBezTo>
                  <a:pt x="349622" y="0"/>
                  <a:pt x="425927" y="38631"/>
                  <a:pt x="477038" y="105283"/>
                </a:cubicBezTo>
                <a:cubicBezTo>
                  <a:pt x="523631" y="166042"/>
                  <a:pt x="545014" y="244549"/>
                  <a:pt x="536230" y="322602"/>
                </a:cubicBezTo>
              </a:path>
            </a:pathLst>
          </a:custGeom>
          <a:noFill/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Дуга 56"/>
          <p:cNvSpPr/>
          <p:nvPr/>
        </p:nvSpPr>
        <p:spPr>
          <a:xfrm rot="16917000">
            <a:off x="3410280" y="3197520"/>
            <a:ext cx="595440" cy="819360"/>
          </a:xfrm>
          <a:custGeom>
            <a:avLst/>
            <a:gdLst/>
            <a:ahLst/>
            <a:rect l="l" t="t" r="r" b="b"/>
            <a:pathLst>
              <a:path stroke="0" w="595312" h="819150">
                <a:moveTo>
                  <a:pt x="297656" y="0"/>
                </a:moveTo>
                <a:cubicBezTo>
                  <a:pt x="399227" y="0"/>
                  <a:pt x="493786" y="71267"/>
                  <a:pt x="548478" y="189038"/>
                </a:cubicBezTo>
                <a:cubicBezTo>
                  <a:pt x="584177" y="265912"/>
                  <a:pt x="600202" y="356985"/>
                  <a:pt x="594012" y="447814"/>
                </a:cubicBezTo>
                <a:lnTo>
                  <a:pt x="297656" y="409575"/>
                </a:lnTo>
                <a:lnTo>
                  <a:pt x="297656" y="0"/>
                </a:lnTo>
                <a:close/>
              </a:path>
              <a:path fill="none" w="595312" h="819150">
                <a:moveTo>
                  <a:pt x="297656" y="0"/>
                </a:moveTo>
                <a:cubicBezTo>
                  <a:pt x="399227" y="0"/>
                  <a:pt x="493786" y="71267"/>
                  <a:pt x="548478" y="189038"/>
                </a:cubicBezTo>
                <a:cubicBezTo>
                  <a:pt x="584177" y="265912"/>
                  <a:pt x="600202" y="356985"/>
                  <a:pt x="594012" y="447814"/>
                </a:cubicBezTo>
              </a:path>
            </a:pathLst>
          </a:custGeom>
          <a:noFill/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Прямоугольник 57"/>
          <p:cNvSpPr/>
          <p:nvPr/>
        </p:nvSpPr>
        <p:spPr>
          <a:xfrm>
            <a:off x="1038960" y="159552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S</a:t>
            </a:r>
            <a:r>
              <a:rPr b="1" lang="ru-RU" sz="1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t</a:t>
            </a:r>
            <a:r>
              <a:rPr b="1" lang="ru-RU" sz="1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),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Прямоугольник 58"/>
          <p:cNvSpPr/>
          <p:nvPr/>
        </p:nvSpPr>
        <p:spPr>
          <a:xfrm>
            <a:off x="7301520" y="5184720"/>
            <a:ext cx="446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t</a:t>
            </a:r>
            <a:r>
              <a:rPr b="1" lang="ru-RU" sz="15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, ч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Прямоугольник 59"/>
          <p:cNvSpPr/>
          <p:nvPr/>
        </p:nvSpPr>
        <p:spPr>
          <a:xfrm>
            <a:off x="4732920" y="5208480"/>
            <a:ext cx="360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Прямоугольник 62"/>
          <p:cNvSpPr/>
          <p:nvPr/>
        </p:nvSpPr>
        <p:spPr>
          <a:xfrm>
            <a:off x="3750120" y="5227560"/>
            <a:ext cx="319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Прямоугольник 63"/>
          <p:cNvSpPr/>
          <p:nvPr/>
        </p:nvSpPr>
        <p:spPr>
          <a:xfrm>
            <a:off x="1699920" y="5132520"/>
            <a:ext cx="317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Прямоугольник 65"/>
          <p:cNvSpPr/>
          <p:nvPr/>
        </p:nvSpPr>
        <p:spPr>
          <a:xfrm>
            <a:off x="6987600" y="1941480"/>
            <a:ext cx="307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Прямоугольник 66"/>
          <p:cNvSpPr/>
          <p:nvPr/>
        </p:nvSpPr>
        <p:spPr>
          <a:xfrm>
            <a:off x="3867840" y="3924360"/>
            <a:ext cx="328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Прямоугольник 67"/>
          <p:cNvSpPr/>
          <p:nvPr/>
        </p:nvSpPr>
        <p:spPr>
          <a:xfrm>
            <a:off x="3691440" y="1820880"/>
            <a:ext cx="328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Прямоугольник 68"/>
          <p:cNvSpPr/>
          <p:nvPr/>
        </p:nvSpPr>
        <p:spPr>
          <a:xfrm>
            <a:off x="5001120" y="181116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Rectangle 4"/>
          <p:cNvSpPr/>
          <p:nvPr/>
        </p:nvSpPr>
        <p:spPr>
          <a:xfrm>
            <a:off x="0" y="684360"/>
            <a:ext cx="138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5" name="Объект 70"/>
              <p:cNvSpPr txBox="1"/>
              <p:nvPr/>
            </p:nvSpPr>
            <p:spPr>
              <a:xfrm>
                <a:off x="4159080" y="5178600"/>
                <a:ext cx="3510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86" name="Rectangle 5"/>
          <p:cNvSpPr/>
          <p:nvPr/>
        </p:nvSpPr>
        <p:spPr>
          <a:xfrm>
            <a:off x="651960" y="1225080"/>
            <a:ext cx="19152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Прямая соединительная линия 73"/>
          <p:cNvSpPr/>
          <p:nvPr/>
        </p:nvSpPr>
        <p:spPr>
          <a:xfrm>
            <a:off x="3643200" y="5013360"/>
            <a:ext cx="0" cy="154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Прямая соединительная линия 74"/>
          <p:cNvSpPr/>
          <p:nvPr/>
        </p:nvSpPr>
        <p:spPr>
          <a:xfrm>
            <a:off x="3632040" y="5002200"/>
            <a:ext cx="176400" cy="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Прямая соединительная линия 88"/>
          <p:cNvSpPr/>
          <p:nvPr/>
        </p:nvSpPr>
        <p:spPr>
          <a:xfrm>
            <a:off x="3830760" y="2301840"/>
            <a:ext cx="19656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Прямая соединительная линия 89"/>
          <p:cNvSpPr/>
          <p:nvPr/>
        </p:nvSpPr>
        <p:spPr>
          <a:xfrm flipV="1">
            <a:off x="4019400" y="2139840"/>
            <a:ext cx="0" cy="1764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Прямоугольник 97"/>
          <p:cNvSpPr/>
          <p:nvPr/>
        </p:nvSpPr>
        <p:spPr>
          <a:xfrm>
            <a:off x="3479760" y="2108160"/>
            <a:ext cx="322200" cy="339840"/>
          </a:xfrm>
          <a:prstGeom prst="rect">
            <a:avLst/>
          </a:prstGeom>
          <a:solidFill>
            <a:srgbClr val="deebf7"/>
          </a:solidFill>
          <a:ln w="12600">
            <a:solidFill>
              <a:srgbClr val="deeb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Прямоугольник 98"/>
          <p:cNvSpPr/>
          <p:nvPr/>
        </p:nvSpPr>
        <p:spPr>
          <a:xfrm>
            <a:off x="3840120" y="4890960"/>
            <a:ext cx="322200" cy="250920"/>
          </a:xfrm>
          <a:prstGeom prst="rect">
            <a:avLst/>
          </a:prstGeom>
          <a:solidFill>
            <a:srgbClr val="deebf7"/>
          </a:solidFill>
          <a:ln w="12600">
            <a:solidFill>
              <a:srgbClr val="deeb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Прямоугольник 101"/>
          <p:cNvSpPr/>
          <p:nvPr/>
        </p:nvSpPr>
        <p:spPr>
          <a:xfrm>
            <a:off x="1625040" y="2036880"/>
            <a:ext cx="307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TextBox 102"/>
          <p:cNvSpPr/>
          <p:nvPr/>
        </p:nvSpPr>
        <p:spPr>
          <a:xfrm>
            <a:off x="2743200" y="1795320"/>
            <a:ext cx="236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TextBox 103"/>
          <p:cNvSpPr/>
          <p:nvPr/>
        </p:nvSpPr>
        <p:spPr>
          <a:xfrm>
            <a:off x="2743200" y="5122800"/>
            <a:ext cx="236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Прямоугольник 1"/>
          <p:cNvSpPr/>
          <p:nvPr/>
        </p:nvSpPr>
        <p:spPr>
          <a:xfrm>
            <a:off x="7683120" y="2336760"/>
            <a:ext cx="4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a1a1a"/>
                </a:solidFill>
                <a:latin typeface="Symbol"/>
                <a:ea typeface="Symbol"/>
              </a:rPr>
              <a:t></a:t>
            </a:r>
            <a:r>
              <a:rPr b="1" lang="ru-RU" sz="1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Прямоугольник 36"/>
          <p:cNvSpPr/>
          <p:nvPr/>
        </p:nvSpPr>
        <p:spPr>
          <a:xfrm>
            <a:off x="7561080" y="326088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1a1a1a"/>
                </a:solidFill>
                <a:latin typeface="Symbol"/>
                <a:ea typeface="Symbol"/>
              </a:rPr>
              <a:t></a:t>
            </a:r>
            <a:r>
              <a:rPr b="1" lang="ru-RU" sz="1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Прямоугольник 5"/>
          <p:cNvSpPr/>
          <p:nvPr/>
        </p:nvSpPr>
        <p:spPr>
          <a:xfrm>
            <a:off x="6781680" y="2800440"/>
            <a:ext cx="22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 : HЕ =ОК : 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9" name="Объект 6"/>
          <p:cNvGraphicFramePr/>
          <p:nvPr/>
        </p:nvGraphicFramePr>
        <p:xfrm>
          <a:off x="2743200" y="3338640"/>
          <a:ext cx="3657600" cy="18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0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338640"/>
                    <a:ext cx="365760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1" name="Прямоугольник 7"/>
          <p:cNvSpPr/>
          <p:nvPr/>
        </p:nvSpPr>
        <p:spPr>
          <a:xfrm>
            <a:off x="6636960" y="3675240"/>
            <a:ext cx="22244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К : ОН = КМ : В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Прямоугольник 41"/>
          <p:cNvSpPr/>
          <p:nvPr/>
        </p:nvSpPr>
        <p:spPr>
          <a:xfrm>
            <a:off x="690480" y="5672160"/>
            <a:ext cx="22748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 : HЕ =КМ : В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Прямоугольник 22"/>
          <p:cNvSpPr/>
          <p:nvPr/>
        </p:nvSpPr>
        <p:spPr>
          <a:xfrm>
            <a:off x="5624280" y="5621400"/>
            <a:ext cx="730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Прямоугольник 23"/>
          <p:cNvSpPr/>
          <p:nvPr/>
        </p:nvSpPr>
        <p:spPr>
          <a:xfrm>
            <a:off x="638280" y="6053040"/>
            <a:ext cx="2538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 =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+2 = 1+2 = 3(ч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Прямоугольник 24"/>
          <p:cNvSpPr/>
          <p:nvPr/>
        </p:nvSpPr>
        <p:spPr>
          <a:xfrm>
            <a:off x="624240" y="6405480"/>
            <a:ext cx="1220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: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Прямоугольник 60"/>
          <p:cNvSpPr/>
          <p:nvPr/>
        </p:nvSpPr>
        <p:spPr>
          <a:xfrm>
            <a:off x="6923520" y="2338560"/>
            <a:ext cx="9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a1a1a"/>
                </a:solidFill>
                <a:latin typeface="Symbol"/>
                <a:ea typeface="Symbol"/>
              </a:rPr>
              <a:t></a:t>
            </a:r>
            <a:r>
              <a:rPr b="1" lang="ru-RU" sz="1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А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Прямоугольник 25"/>
          <p:cNvSpPr/>
          <p:nvPr/>
        </p:nvSpPr>
        <p:spPr>
          <a:xfrm>
            <a:off x="7897320" y="233676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a1a1a"/>
                </a:solidFill>
                <a:latin typeface="Symbol"/>
                <a:ea typeface="Symbol"/>
              </a:rPr>
              <a:t></a:t>
            </a:r>
            <a:r>
              <a:rPr b="1" lang="ru-RU" sz="1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ЕОН</a:t>
            </a:r>
            <a:r>
              <a:rPr b="1" lang="ru-RU" sz="12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Прямоугольник 61"/>
          <p:cNvSpPr/>
          <p:nvPr/>
        </p:nvSpPr>
        <p:spPr>
          <a:xfrm>
            <a:off x="7868880" y="32828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a1a1a"/>
                </a:solidFill>
                <a:latin typeface="Symbol"/>
                <a:ea typeface="Symbol"/>
              </a:rPr>
              <a:t></a:t>
            </a:r>
            <a:r>
              <a:rPr b="1" lang="ru-RU" sz="1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ВОН</a:t>
            </a:r>
            <a:r>
              <a:rPr b="1" lang="ru-RU" sz="12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Прямоугольник 64"/>
          <p:cNvSpPr/>
          <p:nvPr/>
        </p:nvSpPr>
        <p:spPr>
          <a:xfrm>
            <a:off x="6841440" y="32940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a1a1a"/>
                </a:solidFill>
                <a:latin typeface="Symbol"/>
                <a:ea typeface="Symbol"/>
              </a:rPr>
              <a:t></a:t>
            </a:r>
            <a:r>
              <a:rPr b="1" lang="ru-RU" sz="1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М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Прямоугольник 21"/>
          <p:cNvSpPr/>
          <p:nvPr/>
        </p:nvSpPr>
        <p:spPr>
          <a:xfrm>
            <a:off x="4017600" y="5621400"/>
            <a:ext cx="17121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 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</a:t>
            </a:r>
            <a:r>
              <a:rPr b="1" lang="ru-RU" sz="20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2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 1,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&gt;0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1" name="Объект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12" name="Rectangle 57"/>
          <p:cNvSpPr/>
          <p:nvPr/>
        </p:nvSpPr>
        <p:spPr>
          <a:xfrm>
            <a:off x="2664000" y="5653440"/>
            <a:ext cx="14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3" name="Объект 13"/>
              <p:cNvSpPr txBox="1"/>
              <p:nvPr/>
            </p:nvSpPr>
            <p:spPr>
              <a:xfrm>
                <a:off x="3357720" y="5549760"/>
                <a:ext cx="2822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4" name="Rectangle 58"/>
          <p:cNvSpPr/>
          <p:nvPr/>
        </p:nvSpPr>
        <p:spPr>
          <a:xfrm>
            <a:off x="3598920" y="5682240"/>
            <a:ext cx="482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2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2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2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2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2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2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2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2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2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2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2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2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2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2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2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2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2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2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2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2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2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2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Прямоугольник 19"/>
          <p:cNvSpPr/>
          <p:nvPr/>
        </p:nvSpPr>
        <p:spPr>
          <a:xfrm>
            <a:off x="1563840" y="3263760"/>
            <a:ext cx="57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А                                                                                       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6" name="Группа 3"/>
          <p:cNvGrpSpPr/>
          <p:nvPr/>
        </p:nvGrpSpPr>
        <p:grpSpPr>
          <a:xfrm>
            <a:off x="1274760" y="2529000"/>
            <a:ext cx="6318360" cy="718920"/>
            <a:chOff x="1274760" y="2529000"/>
            <a:chExt cx="6318360" cy="718920"/>
          </a:xfrm>
        </p:grpSpPr>
        <p:sp>
          <p:nvSpPr>
            <p:cNvPr id="2217" name="Прямая соединительная линия 4"/>
            <p:cNvSpPr/>
            <p:nvPr/>
          </p:nvSpPr>
          <p:spPr>
            <a:xfrm flipV="1">
              <a:off x="1722240" y="3237120"/>
              <a:ext cx="5472360" cy="1080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Блок-схема: ссылка на другую страницу 5"/>
            <p:cNvSpPr/>
            <p:nvPr/>
          </p:nvSpPr>
          <p:spPr>
            <a:xfrm>
              <a:off x="1274760" y="2541600"/>
              <a:ext cx="895320" cy="706320"/>
            </a:xfrm>
            <a:prstGeom prst="flowChartOffpageConnector">
              <a:avLst/>
            </a:prstGeom>
            <a:solidFill>
              <a:srgbClr val="bdd7ee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Блок-схема: ссылка на другую страницу 6"/>
            <p:cNvSpPr/>
            <p:nvPr/>
          </p:nvSpPr>
          <p:spPr>
            <a:xfrm>
              <a:off x="6732720" y="2529000"/>
              <a:ext cx="860400" cy="706320"/>
            </a:xfrm>
            <a:prstGeom prst="flowChartOffpageConnector">
              <a:avLst/>
            </a:prstGeom>
            <a:solidFill>
              <a:srgbClr val="bdd7ee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 к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0" name="Правильный пятиугольник 17"/>
          <p:cNvSpPr/>
          <p:nvPr/>
        </p:nvSpPr>
        <p:spPr>
          <a:xfrm>
            <a:off x="1333440" y="3462480"/>
            <a:ext cx="822240" cy="758520"/>
          </a:xfrm>
          <a:prstGeom prst="pentagon">
            <a:avLst/>
          </a:prstGeom>
          <a:solidFill>
            <a:srgbClr val="f8cbad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Правильный пятиугольник 18"/>
          <p:cNvSpPr/>
          <p:nvPr/>
        </p:nvSpPr>
        <p:spPr>
          <a:xfrm>
            <a:off x="6794640" y="3476520"/>
            <a:ext cx="765000" cy="744480"/>
          </a:xfrm>
          <a:prstGeom prst="pentagon">
            <a:avLst/>
          </a:prstGeom>
          <a:solidFill>
            <a:srgbClr val="f8cbad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Равнобедренный треугольник 21"/>
          <p:cNvSpPr/>
          <p:nvPr/>
        </p:nvSpPr>
        <p:spPr>
          <a:xfrm rot="10800000">
            <a:off x="4797360" y="2489040"/>
            <a:ext cx="333360" cy="735120"/>
          </a:xfrm>
          <a:prstGeom prst="triangle">
            <a:avLst>
              <a:gd name="adj" fmla="val 42856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Прямоугольник 22"/>
          <p:cNvSpPr/>
          <p:nvPr/>
        </p:nvSpPr>
        <p:spPr>
          <a:xfrm>
            <a:off x="2927520" y="4164120"/>
            <a:ext cx="24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5% - 15 % = 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Прямоугольник 23"/>
          <p:cNvSpPr/>
          <p:nvPr/>
        </p:nvSpPr>
        <p:spPr>
          <a:xfrm>
            <a:off x="374760" y="262080"/>
            <a:ext cx="851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№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али 2 кг 15-процентного водного раствора некоторого вещества с 3 кг 25-процентного водного раствора этого же вещества. Сколько процентов составляет концентрация получившегося раство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Прямоугольник 24"/>
          <p:cNvSpPr/>
          <p:nvPr/>
        </p:nvSpPr>
        <p:spPr>
          <a:xfrm>
            <a:off x="3219480" y="28400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3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Прямоугольник 25"/>
          <p:cNvSpPr/>
          <p:nvPr/>
        </p:nvSpPr>
        <p:spPr>
          <a:xfrm>
            <a:off x="5765760" y="2820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2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Прямоугольник 26"/>
          <p:cNvSpPr/>
          <p:nvPr/>
        </p:nvSpPr>
        <p:spPr>
          <a:xfrm>
            <a:off x="3469320" y="45100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3х + 2х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Прямоугольник 27"/>
          <p:cNvSpPr/>
          <p:nvPr/>
        </p:nvSpPr>
        <p:spPr>
          <a:xfrm>
            <a:off x="3813120" y="491004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5х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Прямоугольник 28"/>
          <p:cNvSpPr/>
          <p:nvPr/>
        </p:nvSpPr>
        <p:spPr>
          <a:xfrm>
            <a:off x="3830760" y="532440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х = 2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Прямоугольник 29"/>
          <p:cNvSpPr/>
          <p:nvPr/>
        </p:nvSpPr>
        <p:spPr>
          <a:xfrm>
            <a:off x="2946600" y="5757840"/>
            <a:ext cx="38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3х = 3 </a:t>
            </a:r>
            <a:r>
              <a:rPr b="1" lang="ru-RU" sz="900" spc="-1" strike="noStrike" baseline="30000">
                <a:solidFill>
                  <a:srgbClr val="1a1a1a"/>
                </a:solidFill>
                <a:latin typeface="Symbol"/>
                <a:ea typeface="Symbol"/>
              </a:rPr>
              <a:t></a:t>
            </a:r>
            <a:r>
              <a:rPr b="1" lang="ru-RU" sz="1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 2% = 6%;   15% + 6% = 2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Прямоугольник 30"/>
          <p:cNvSpPr/>
          <p:nvPr/>
        </p:nvSpPr>
        <p:spPr>
          <a:xfrm>
            <a:off x="3216240" y="3462480"/>
            <a:ext cx="39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6%                                        4%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Двойные круглые скобки 33"/>
          <p:cNvSpPr/>
          <p:nvPr/>
        </p:nvSpPr>
        <p:spPr>
          <a:xfrm>
            <a:off x="1722600" y="3240000"/>
            <a:ext cx="5472000" cy="23328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Прямоугольник 1"/>
          <p:cNvSpPr/>
          <p:nvPr/>
        </p:nvSpPr>
        <p:spPr>
          <a:xfrm>
            <a:off x="988560" y="5950080"/>
            <a:ext cx="12308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Ответ: 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Прямоугольник 2"/>
          <p:cNvSpPr/>
          <p:nvPr/>
        </p:nvSpPr>
        <p:spPr>
          <a:xfrm>
            <a:off x="4797000" y="32241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5" name="Прямая со стрелкой 8"/>
          <p:cNvCxnSpPr>
            <a:stCxn id="2220" idx="4"/>
            <a:endCxn id="2221" idx="2"/>
          </p:cNvCxnSpPr>
          <p:nvPr/>
        </p:nvCxnSpPr>
        <p:spPr>
          <a:xfrm>
            <a:off x="1998360" y="4220640"/>
            <a:ext cx="4942440" cy="1080"/>
          </a:xfrm>
          <a:prstGeom prst="straightConnector1">
            <a:avLst/>
          </a:prstGeom>
          <a:ln w="19080">
            <a:solidFill>
              <a:srgbClr val="5b9bd5"/>
            </a:solidFill>
            <a:miter/>
            <a:headEnd len="lg" type="triangle" w="med"/>
            <a:tailEnd len="lg" type="triangle" w="med"/>
          </a:ln>
        </p:spPr>
      </p:cxnSp>
      <p:cxnSp>
        <p:nvCxnSpPr>
          <p:cNvPr id="2236" name="Прямая со стрелкой 23"/>
          <p:cNvCxnSpPr/>
          <p:nvPr/>
        </p:nvCxnSpPr>
        <p:spPr>
          <a:xfrm flipV="1">
            <a:off x="142560" y="1761840"/>
            <a:ext cx="7598520" cy="33840"/>
          </a:xfrm>
          <a:prstGeom prst="straightConnector1">
            <a:avLst/>
          </a:prstGeom>
          <a:ln w="19080">
            <a:solidFill>
              <a:srgbClr val="5b9bd5"/>
            </a:solidFill>
            <a:miter/>
            <a:tailEnd len="med" type="triangle" w="med"/>
          </a:ln>
        </p:spPr>
      </p:cxnSp>
      <p:sp>
        <p:nvSpPr>
          <p:cNvPr id="2237" name="Прямая соединительная линия 11"/>
          <p:cNvSpPr/>
          <p:nvPr/>
        </p:nvSpPr>
        <p:spPr>
          <a:xfrm>
            <a:off x="142920" y="1660680"/>
            <a:ext cx="0" cy="168120"/>
          </a:xfrm>
          <a:prstGeom prst="line">
            <a:avLst/>
          </a:prstGeom>
          <a:ln w="158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Прямая соединительная линия 13"/>
          <p:cNvSpPr/>
          <p:nvPr/>
        </p:nvSpPr>
        <p:spPr>
          <a:xfrm>
            <a:off x="1701720" y="1698480"/>
            <a:ext cx="0" cy="130320"/>
          </a:xfrm>
          <a:prstGeom prst="line">
            <a:avLst/>
          </a:prstGeom>
          <a:ln w="158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Прямая соединительная линия 20"/>
          <p:cNvSpPr/>
          <p:nvPr/>
        </p:nvSpPr>
        <p:spPr>
          <a:xfrm>
            <a:off x="7194600" y="1660680"/>
            <a:ext cx="0" cy="134640"/>
          </a:xfrm>
          <a:prstGeom prst="line">
            <a:avLst/>
          </a:prstGeom>
          <a:ln w="158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Прямоугольник 32"/>
          <p:cNvSpPr/>
          <p:nvPr/>
        </p:nvSpPr>
        <p:spPr>
          <a:xfrm>
            <a:off x="63360" y="1920960"/>
            <a:ext cx="76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b87d4"/>
                </a:solidFill>
                <a:latin typeface="Times New Roman"/>
                <a:ea typeface="Times New Roman"/>
              </a:rPr>
              <a:t>0                       15                                        ?                                                  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Прямоугольник 34"/>
          <p:cNvSpPr/>
          <p:nvPr/>
        </p:nvSpPr>
        <p:spPr>
          <a:xfrm>
            <a:off x="2160" y="1376280"/>
            <a:ext cx="73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О                        А                                                                                           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2" name="Прямая со стрелкой 9"/>
          <p:cNvCxnSpPr/>
          <p:nvPr/>
        </p:nvCxnSpPr>
        <p:spPr>
          <a:xfrm>
            <a:off x="1722240" y="2204640"/>
            <a:ext cx="5545800" cy="1080"/>
          </a:xfrm>
          <a:prstGeom prst="straightConnector1">
            <a:avLst/>
          </a:prstGeom>
          <a:ln w="19080">
            <a:solidFill>
              <a:srgbClr val="5b9bd5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43" name="Правильный пятиугольник 31"/>
          <p:cNvSpPr/>
          <p:nvPr/>
        </p:nvSpPr>
        <p:spPr>
          <a:xfrm>
            <a:off x="4597560" y="3259080"/>
            <a:ext cx="733320" cy="830160"/>
          </a:xfrm>
          <a:prstGeom prst="pentagon">
            <a:avLst/>
          </a:prstGeom>
          <a:solidFill>
            <a:srgbClr val="c55a11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Прямоугольник 33"/>
          <p:cNvSpPr/>
          <p:nvPr/>
        </p:nvSpPr>
        <p:spPr>
          <a:xfrm>
            <a:off x="374760" y="262080"/>
            <a:ext cx="851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№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али 2 кг 15-процентного водного раствора некоторого вещества с 3 кг 25-процентного водного раствора этого же вещества. Сколько процентов составляет концентрация получившегося раство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5" name="Группа 34"/>
          <p:cNvGrpSpPr/>
          <p:nvPr/>
        </p:nvGrpSpPr>
        <p:grpSpPr>
          <a:xfrm>
            <a:off x="1403280" y="1522440"/>
            <a:ext cx="5272200" cy="1579680"/>
            <a:chOff x="1403280" y="1522440"/>
            <a:chExt cx="5272200" cy="1579680"/>
          </a:xfrm>
        </p:grpSpPr>
        <p:sp>
          <p:nvSpPr>
            <p:cNvPr id="2246" name="Правильный пятиугольник 35"/>
            <p:cNvSpPr/>
            <p:nvPr/>
          </p:nvSpPr>
          <p:spPr>
            <a:xfrm>
              <a:off x="5667480" y="2114640"/>
              <a:ext cx="1008000" cy="952560"/>
            </a:xfrm>
            <a:prstGeom prst="pentagon">
              <a:avLst/>
            </a:prstGeom>
            <a:solidFill>
              <a:srgbClr val="eb9381"/>
            </a:solidFill>
            <a:ln w="12600">
              <a:solidFill>
                <a:srgbClr val="e263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7" name="Группа 36"/>
            <p:cNvGrpSpPr/>
            <p:nvPr/>
          </p:nvGrpSpPr>
          <p:grpSpPr>
            <a:xfrm>
              <a:off x="1403280" y="1522440"/>
              <a:ext cx="5070600" cy="1579680"/>
              <a:chOff x="1403280" y="1522440"/>
              <a:chExt cx="5070600" cy="1579680"/>
            </a:xfrm>
          </p:grpSpPr>
          <p:grpSp>
            <p:nvGrpSpPr>
              <p:cNvPr id="2248" name="Группа 39"/>
              <p:cNvGrpSpPr/>
              <p:nvPr/>
            </p:nvGrpSpPr>
            <p:grpSpPr>
              <a:xfrm>
                <a:off x="1559160" y="1522440"/>
                <a:ext cx="4914720" cy="533880"/>
                <a:chOff x="1559160" y="1522440"/>
                <a:chExt cx="4914720" cy="533880"/>
              </a:xfrm>
            </p:grpSpPr>
            <p:sp>
              <p:nvSpPr>
                <p:cNvPr id="2249" name="Блок-схема: ссылка на другую страницу 42"/>
                <p:cNvSpPr/>
                <p:nvPr/>
              </p:nvSpPr>
              <p:spPr>
                <a:xfrm>
                  <a:off x="1559160" y="1522440"/>
                  <a:ext cx="696600" cy="533880"/>
                </a:xfrm>
                <a:prstGeom prst="flowChartOffpageConnector">
                  <a:avLst/>
                </a:prstGeom>
                <a:solidFill>
                  <a:srgbClr val="bdd7ee"/>
                </a:solidFill>
                <a:ln w="12600">
                  <a:solidFill>
                    <a:srgbClr val="4171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 </a:t>
                  </a:r>
                  <a:r>
                    <a:rPr b="1" lang="ru-R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кг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0" name="Блок-схема: ссылка на другую страницу 43"/>
                <p:cNvSpPr/>
                <p:nvPr/>
              </p:nvSpPr>
              <p:spPr>
                <a:xfrm>
                  <a:off x="5804280" y="1522440"/>
                  <a:ext cx="669600" cy="533880"/>
                </a:xfrm>
                <a:prstGeom prst="flowChartOffpageConnector">
                  <a:avLst/>
                </a:prstGeom>
                <a:solidFill>
                  <a:srgbClr val="bdd7ee"/>
                </a:solidFill>
                <a:ln w="12600">
                  <a:solidFill>
                    <a:srgbClr val="4171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 кг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51" name="Правильный пятиугольник 38"/>
              <p:cNvSpPr/>
              <p:nvPr/>
            </p:nvSpPr>
            <p:spPr>
              <a:xfrm>
                <a:off x="1403280" y="2149560"/>
                <a:ext cx="1008000" cy="952560"/>
              </a:xfrm>
              <a:prstGeom prst="pentagon">
                <a:avLst/>
              </a:prstGeom>
              <a:solidFill>
                <a:srgbClr val="eb9381"/>
              </a:solidFill>
              <a:ln w="12600">
                <a:solidFill>
                  <a:srgbClr val="e2634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5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52" name="Прямоугольник 5"/>
          <p:cNvSpPr/>
          <p:nvPr/>
        </p:nvSpPr>
        <p:spPr>
          <a:xfrm>
            <a:off x="634680" y="6186600"/>
            <a:ext cx="12308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Ответ: 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3" name=""/>
          <p:cNvGraphicFramePr/>
          <p:nvPr/>
        </p:nvGraphicFramePr>
        <p:xfrm>
          <a:off x="719280" y="3162240"/>
          <a:ext cx="8281800" cy="2305080"/>
        </p:xfrm>
        <a:graphic>
          <a:graphicData uri="http://schemas.openxmlformats.org/drawingml/2006/table">
            <a:tbl>
              <a:tblPr/>
              <a:tblGrid>
                <a:gridCol w="1728720"/>
                <a:gridCol w="1871640"/>
                <a:gridCol w="2448000"/>
                <a:gridCol w="223344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раствора,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e2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вещ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938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вещества,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54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a1a1a"/>
                          </a:solidFill>
                          <a:latin typeface="Times New Roman"/>
                          <a:ea typeface="Times New Roman"/>
                        </a:rPr>
                        <a:t>1-й раств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e2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938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54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a1a1a"/>
                          </a:solidFill>
                          <a:latin typeface="Times New Roman"/>
                          <a:ea typeface="Times New Roman"/>
                        </a:rPr>
                        <a:t>2-й раств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e2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938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1f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a1a1a"/>
                          </a:solidFill>
                          <a:latin typeface="Times New Roman"/>
                          <a:ea typeface="Times New Roman"/>
                        </a:rPr>
                        <a:t>Новый раств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e2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938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sp>
        <p:nvSpPr>
          <p:cNvPr id="2254" name="Прямоугольник 11"/>
          <p:cNvSpPr/>
          <p:nvPr/>
        </p:nvSpPr>
        <p:spPr>
          <a:xfrm>
            <a:off x="4283280" y="491328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1,05 : 5 = 0,2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Прямоугольник 12"/>
          <p:cNvSpPr/>
          <p:nvPr/>
        </p:nvSpPr>
        <p:spPr>
          <a:xfrm>
            <a:off x="5672520" y="491796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= 21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Прямоугольник 14"/>
          <p:cNvSpPr/>
          <p:nvPr/>
        </p:nvSpPr>
        <p:spPr>
          <a:xfrm>
            <a:off x="3201840" y="3862440"/>
            <a:ext cx="2952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Прямоугольник 15"/>
          <p:cNvSpPr/>
          <p:nvPr/>
        </p:nvSpPr>
        <p:spPr>
          <a:xfrm>
            <a:off x="3130200" y="4314960"/>
            <a:ext cx="35316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Прямоугольник 16"/>
          <p:cNvSpPr/>
          <p:nvPr/>
        </p:nvSpPr>
        <p:spPr>
          <a:xfrm>
            <a:off x="3201840" y="4903920"/>
            <a:ext cx="2952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Прямоугольник 17"/>
          <p:cNvSpPr/>
          <p:nvPr/>
        </p:nvSpPr>
        <p:spPr>
          <a:xfrm>
            <a:off x="5387400" y="3862440"/>
            <a:ext cx="4093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Прямоугольник 18"/>
          <p:cNvSpPr/>
          <p:nvPr/>
        </p:nvSpPr>
        <p:spPr>
          <a:xfrm>
            <a:off x="5387400" y="4375080"/>
            <a:ext cx="4093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Прямоугольник 19"/>
          <p:cNvSpPr/>
          <p:nvPr/>
        </p:nvSpPr>
        <p:spPr>
          <a:xfrm>
            <a:off x="5445000" y="4913280"/>
            <a:ext cx="29376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Прямоугольник 20"/>
          <p:cNvSpPr/>
          <p:nvPr/>
        </p:nvSpPr>
        <p:spPr>
          <a:xfrm>
            <a:off x="7209360" y="3736800"/>
            <a:ext cx="14486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2 </a:t>
            </a:r>
            <a:r>
              <a:rPr b="1" lang="ru-RU" sz="900" spc="-1" strike="noStrike">
                <a:solidFill>
                  <a:srgbClr val="385723"/>
                </a:solidFill>
                <a:latin typeface="Symbol"/>
                <a:ea typeface="Symbol"/>
              </a:rPr>
              <a:t></a:t>
            </a:r>
            <a:r>
              <a:rPr b="1" lang="ru-RU" sz="18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 0,15 = 0,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Прямоугольник 21"/>
          <p:cNvSpPr/>
          <p:nvPr/>
        </p:nvSpPr>
        <p:spPr>
          <a:xfrm>
            <a:off x="7208640" y="4338720"/>
            <a:ext cx="15004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3 </a:t>
            </a:r>
            <a:r>
              <a:rPr b="1" lang="ru-RU" sz="800" spc="-1" strike="noStrike">
                <a:solidFill>
                  <a:srgbClr val="385723"/>
                </a:solidFill>
                <a:latin typeface="Symbol"/>
                <a:ea typeface="Symbol"/>
              </a:rPr>
              <a:t></a:t>
            </a:r>
            <a:r>
              <a:rPr b="1" lang="ru-RU" sz="18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 0,25 = 0,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Прямоугольник 22"/>
          <p:cNvSpPr/>
          <p:nvPr/>
        </p:nvSpPr>
        <p:spPr>
          <a:xfrm>
            <a:off x="7052760" y="4903920"/>
            <a:ext cx="17596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0,3 + 0,75 = 1,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"/>
          <p:cNvSpPr txBox="1"/>
          <p:nvPr/>
        </p:nvSpPr>
        <p:spPr>
          <a:xfrm>
            <a:off x="791640" y="584280"/>
            <a:ext cx="792036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Продолжите предлож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1) В своей работе при решении текстовых задач графический способ … (использовали или не использовал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2) Графический    способ   …     ( эффективный      или не эффективны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3) Использовать графический способ в работе … (буду или не буду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6" name="Picture 46" descr="Picture background"/>
          <p:cNvPicPr/>
          <p:nvPr/>
        </p:nvPicPr>
        <p:blipFill>
          <a:blip r:embed="rId1"/>
          <a:stretch/>
        </p:blipFill>
        <p:spPr>
          <a:xfrm>
            <a:off x="3774960" y="-27000"/>
            <a:ext cx="5442120" cy="3400560"/>
          </a:xfrm>
          <a:prstGeom prst="rect">
            <a:avLst/>
          </a:prstGeom>
          <a:ln w="0">
            <a:noFill/>
          </a:ln>
        </p:spPr>
      </p:pic>
      <p:pic>
        <p:nvPicPr>
          <p:cNvPr id="2267" name="Picture 54" descr="Picture background"/>
          <p:cNvPicPr/>
          <p:nvPr/>
        </p:nvPicPr>
        <p:blipFill>
          <a:blip r:embed="rId2"/>
          <a:srcRect l="0" t="12754" r="19664" b="0"/>
          <a:stretch/>
        </p:blipFill>
        <p:spPr>
          <a:xfrm>
            <a:off x="4208400" y="3373560"/>
            <a:ext cx="4935600" cy="3573360"/>
          </a:xfrm>
          <a:prstGeom prst="rect">
            <a:avLst/>
          </a:prstGeom>
          <a:ln w="0">
            <a:noFill/>
          </a:ln>
        </p:spPr>
      </p:pic>
      <p:pic>
        <p:nvPicPr>
          <p:cNvPr id="2268" name="Picture 56" descr="Picture background"/>
          <p:cNvPicPr/>
          <p:nvPr/>
        </p:nvPicPr>
        <p:blipFill>
          <a:blip r:embed="rId3"/>
          <a:srcRect l="19203" t="10642" r="19701" b="6750"/>
          <a:stretch/>
        </p:blipFill>
        <p:spPr>
          <a:xfrm>
            <a:off x="-4680" y="0"/>
            <a:ext cx="3779640" cy="3421080"/>
          </a:xfrm>
          <a:prstGeom prst="rect">
            <a:avLst/>
          </a:prstGeom>
          <a:ln w="0">
            <a:noFill/>
          </a:ln>
        </p:spPr>
      </p:pic>
      <p:pic>
        <p:nvPicPr>
          <p:cNvPr id="2269" name="Picture 50" descr="Picture background"/>
          <p:cNvPicPr/>
          <p:nvPr/>
        </p:nvPicPr>
        <p:blipFill>
          <a:blip r:embed="rId4"/>
          <a:stretch/>
        </p:blipFill>
        <p:spPr>
          <a:xfrm>
            <a:off x="0" y="3355920"/>
            <a:ext cx="5021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2574720" y="1337760"/>
            <a:ext cx="6376680" cy="279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8f8f8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17375e"/>
                </a:solidFill>
                <a:latin typeface="Arial Black"/>
              </a:rPr>
              <a:t>«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Нестандартные решения: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искусство видеть прекрасное сердцем»</a:t>
            </a:r>
            <a:br>
              <a:rPr sz="40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3" name="Рисунок 3" descr=""/>
          <p:cNvPicPr/>
          <p:nvPr/>
        </p:nvPicPr>
        <p:blipFill>
          <a:blip r:embed="rId1"/>
          <a:stretch/>
        </p:blipFill>
        <p:spPr>
          <a:xfrm>
            <a:off x="-46080" y="0"/>
            <a:ext cx="9180720" cy="1238400"/>
          </a:xfrm>
          <a:prstGeom prst="rect">
            <a:avLst/>
          </a:prstGeom>
          <a:ln w="0">
            <a:noFill/>
          </a:ln>
        </p:spPr>
      </p:pic>
      <p:sp>
        <p:nvSpPr>
          <p:cNvPr id="2054" name="Rectangle 2"/>
          <p:cNvSpPr/>
          <p:nvPr/>
        </p:nvSpPr>
        <p:spPr>
          <a:xfrm>
            <a:off x="1547640" y="179280"/>
            <a:ext cx="723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Областное государственное бюджетное общеобразовательное учреждение «Средняя общеобразовательная школа № 20 с углубленным изучением отдельных предметов г. Старого Оскола» Белгород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5" name="Рисунок 9" descr=""/>
          <p:cNvPicPr/>
          <p:nvPr/>
        </p:nvPicPr>
        <p:blipFill>
          <a:blip r:embed="rId2"/>
          <a:stretch/>
        </p:blipFill>
        <p:spPr>
          <a:xfrm>
            <a:off x="85680" y="96840"/>
            <a:ext cx="1584360" cy="1079640"/>
          </a:xfrm>
          <a:prstGeom prst="rect">
            <a:avLst/>
          </a:prstGeom>
          <a:ln w="0">
            <a:noFill/>
          </a:ln>
        </p:spPr>
      </p:pic>
      <p:pic>
        <p:nvPicPr>
          <p:cNvPr id="2056" name="Рисунок 5" descr=""/>
          <p:cNvPicPr/>
          <p:nvPr/>
        </p:nvPicPr>
        <p:blipFill>
          <a:blip r:embed="rId3"/>
          <a:stretch/>
        </p:blipFill>
        <p:spPr>
          <a:xfrm>
            <a:off x="57240" y="1374840"/>
            <a:ext cx="2709720" cy="2054160"/>
          </a:xfrm>
          <a:prstGeom prst="rect">
            <a:avLst/>
          </a:prstGeom>
          <a:ln w="0">
            <a:noFill/>
          </a:ln>
        </p:spPr>
      </p:pic>
      <p:pic>
        <p:nvPicPr>
          <p:cNvPr id="2057" name="Рисунок 1" descr=""/>
          <p:cNvPicPr/>
          <p:nvPr/>
        </p:nvPicPr>
        <p:blipFill>
          <a:blip r:embed="rId4"/>
          <a:stretch/>
        </p:blipFill>
        <p:spPr>
          <a:xfrm>
            <a:off x="109440" y="3614760"/>
            <a:ext cx="3121200" cy="2792520"/>
          </a:xfrm>
          <a:prstGeom prst="rect">
            <a:avLst/>
          </a:prstGeom>
          <a:ln w="0">
            <a:noFill/>
          </a:ln>
        </p:spPr>
      </p:pic>
      <p:sp>
        <p:nvSpPr>
          <p:cNvPr id="2058" name="TextBox 4"/>
          <p:cNvSpPr/>
          <p:nvPr/>
        </p:nvSpPr>
        <p:spPr>
          <a:xfrm>
            <a:off x="3235320" y="4581360"/>
            <a:ext cx="571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 Black"/>
              </a:rPr>
              <a:t>Панкова Ирина Ивановна,  учитель математики ОГБОУ "СОШ №20 с УИОП г. Старого Оскол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2574720" y="1337760"/>
            <a:ext cx="6376680" cy="279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8f8f8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17375e"/>
                </a:solidFill>
                <a:latin typeface="Arial Black"/>
              </a:rPr>
              <a:t>«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Нестандартные решения: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искусство видеть прекрасное сердцем»</a:t>
            </a:r>
            <a:br>
              <a:rPr sz="40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1" name="Рисунок 3" descr=""/>
          <p:cNvPicPr/>
          <p:nvPr/>
        </p:nvPicPr>
        <p:blipFill>
          <a:blip r:embed="rId1"/>
          <a:stretch/>
        </p:blipFill>
        <p:spPr>
          <a:xfrm>
            <a:off x="-46080" y="0"/>
            <a:ext cx="9180720" cy="1238400"/>
          </a:xfrm>
          <a:prstGeom prst="rect">
            <a:avLst/>
          </a:prstGeom>
          <a:ln w="0">
            <a:noFill/>
          </a:ln>
        </p:spPr>
      </p:pic>
      <p:sp>
        <p:nvSpPr>
          <p:cNvPr id="2272" name="Rectangle 2"/>
          <p:cNvSpPr/>
          <p:nvPr/>
        </p:nvSpPr>
        <p:spPr>
          <a:xfrm>
            <a:off x="1547640" y="179280"/>
            <a:ext cx="723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Областное государственное бюджетное общеобразовательное учреждение «Средняя общеобразовательная школа № 20 с углубленным изучением отдельных предметов г. Старого Оскола» Белгород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3" name="Рисунок 9" descr=""/>
          <p:cNvPicPr/>
          <p:nvPr/>
        </p:nvPicPr>
        <p:blipFill>
          <a:blip r:embed="rId2"/>
          <a:stretch/>
        </p:blipFill>
        <p:spPr>
          <a:xfrm>
            <a:off x="85680" y="96840"/>
            <a:ext cx="1584360" cy="1079640"/>
          </a:xfrm>
          <a:prstGeom prst="rect">
            <a:avLst/>
          </a:prstGeom>
          <a:ln w="0">
            <a:noFill/>
          </a:ln>
        </p:spPr>
      </p:pic>
      <p:pic>
        <p:nvPicPr>
          <p:cNvPr id="2274" name="Рисунок 5" descr=""/>
          <p:cNvPicPr/>
          <p:nvPr/>
        </p:nvPicPr>
        <p:blipFill>
          <a:blip r:embed="rId3"/>
          <a:stretch/>
        </p:blipFill>
        <p:spPr>
          <a:xfrm>
            <a:off x="57240" y="1374840"/>
            <a:ext cx="2709720" cy="2054160"/>
          </a:xfrm>
          <a:prstGeom prst="rect">
            <a:avLst/>
          </a:prstGeom>
          <a:ln w="0">
            <a:noFill/>
          </a:ln>
        </p:spPr>
      </p:pic>
      <p:pic>
        <p:nvPicPr>
          <p:cNvPr id="2275" name="Рисунок 1" descr=""/>
          <p:cNvPicPr/>
          <p:nvPr/>
        </p:nvPicPr>
        <p:blipFill>
          <a:blip r:embed="rId4"/>
          <a:stretch/>
        </p:blipFill>
        <p:spPr>
          <a:xfrm>
            <a:off x="109440" y="3614760"/>
            <a:ext cx="3121200" cy="2792520"/>
          </a:xfrm>
          <a:prstGeom prst="rect">
            <a:avLst/>
          </a:prstGeom>
          <a:ln w="0">
            <a:noFill/>
          </a:ln>
        </p:spPr>
      </p:pic>
      <p:sp>
        <p:nvSpPr>
          <p:cNvPr id="2276" name="TextBox 4"/>
          <p:cNvSpPr/>
          <p:nvPr/>
        </p:nvSpPr>
        <p:spPr>
          <a:xfrm>
            <a:off x="3235320" y="4581360"/>
            <a:ext cx="571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 Black"/>
              </a:rPr>
              <a:t>Панкова Ирина Ивановна,  учитель математики ОГБОУ "СОШ №20 с УИОП г. Старого Оскол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Выноска-облако 4"/>
          <p:cNvSpPr/>
          <p:nvPr/>
        </p:nvSpPr>
        <p:spPr>
          <a:xfrm>
            <a:off x="71280" y="81000"/>
            <a:ext cx="3095640" cy="2376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Arial"/>
              </a:rPr>
              <a:t>Помашите рукой или напишите в чат «+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Скругленный прямоугольник 48"/>
          <p:cNvSpPr/>
          <p:nvPr/>
        </p:nvSpPr>
        <p:spPr>
          <a:xfrm>
            <a:off x="490680" y="3968640"/>
            <a:ext cx="3997080" cy="93672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Скругленный прямоугольник 47"/>
          <p:cNvSpPr/>
          <p:nvPr/>
        </p:nvSpPr>
        <p:spPr>
          <a:xfrm>
            <a:off x="2808360" y="1790640"/>
            <a:ext cx="3995640" cy="93672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429"/>
                </a:solidFill>
                <a:latin typeface="Arial Black"/>
                <a:ea typeface="Arial"/>
              </a:rPr>
              <a:t>Как звали Вашего учителя математик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Скругленный прямоугольник 2"/>
          <p:cNvSpPr/>
          <p:nvPr/>
        </p:nvSpPr>
        <p:spPr>
          <a:xfrm>
            <a:off x="4662360" y="371520"/>
            <a:ext cx="3996000" cy="93672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Прямоугольник 1"/>
          <p:cNvSpPr/>
          <p:nvPr/>
        </p:nvSpPr>
        <p:spPr>
          <a:xfrm>
            <a:off x="5263200" y="299880"/>
            <a:ext cx="23889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429"/>
                </a:solidFill>
                <a:latin typeface="Arial Black"/>
                <a:ea typeface="Times New Roman"/>
              </a:rPr>
              <a:t>Кто люб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429"/>
                </a:solidFill>
                <a:latin typeface="Arial Black"/>
                <a:ea typeface="Times New Roman"/>
              </a:rPr>
              <a:t>математик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Прямоугольник 52"/>
          <p:cNvSpPr/>
          <p:nvPr/>
        </p:nvSpPr>
        <p:spPr>
          <a:xfrm>
            <a:off x="484200" y="3968640"/>
            <a:ext cx="368280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429"/>
                </a:solidFill>
                <a:latin typeface="Arial Black"/>
                <a:ea typeface="Times New Roman"/>
              </a:rPr>
              <a:t>Чему Вас учили на уро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429"/>
                </a:solidFill>
                <a:latin typeface="Arial Black"/>
                <a:ea typeface="Times New Roman"/>
              </a:rPr>
              <a:t>математик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Выноска-облако 53"/>
          <p:cNvSpPr/>
          <p:nvPr/>
        </p:nvSpPr>
        <p:spPr>
          <a:xfrm>
            <a:off x="5616720" y="2736720"/>
            <a:ext cx="2916000" cy="2376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Скругленный прямоугольник 55"/>
          <p:cNvSpPr/>
          <p:nvPr/>
        </p:nvSpPr>
        <p:spPr>
          <a:xfrm>
            <a:off x="826920" y="5678640"/>
            <a:ext cx="6786720" cy="93636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шать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7" name="Рисунок 3" descr=""/>
          <p:cNvPicPr/>
          <p:nvPr/>
        </p:nvPicPr>
        <p:blipFill>
          <a:blip r:embed="rId1"/>
          <a:stretch/>
        </p:blipFill>
        <p:spPr>
          <a:xfrm>
            <a:off x="5791320" y="3035160"/>
            <a:ext cx="256680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88776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1f4e79"/>
                </a:solidFill>
                <a:latin typeface="Arial Black"/>
              </a:rPr>
              <a:t>Федеральный государственный образовательный стандарт </a:t>
            </a:r>
            <a:br>
              <a:rPr sz="2800"/>
            </a:br>
            <a:r>
              <a:rPr b="1" lang="ru-RU" sz="2800" spc="-1" strike="noStrike">
                <a:solidFill>
                  <a:srgbClr val="1f4e79"/>
                </a:solidFill>
                <a:latin typeface="Arial Black"/>
              </a:rPr>
              <a:t>среднего общего образования 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9" name=""/>
          <p:cNvSpPr txBox="1"/>
          <p:nvPr/>
        </p:nvSpPr>
        <p:spPr>
          <a:xfrm>
            <a:off x="195120" y="1599840"/>
            <a:ext cx="8877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владение познавательными универсальными учебными действиями, обеспечивающими развит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креативного мышления при решении жизненных проблем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способности и готовности к самостоятельному поиску методов решения практических задач, применению различных методов познани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мения решать текстовые задачи разных типо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в том числе на проценты, доли и части, на движение, работу, стоимость товаров и услуг, налоги, задачи из области управления личными и семейными финансами); составлять выражения, уравнения, неравенства и их системы по условию задачи, исследовать полученное решение и оценивать правдоподобность результ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0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Скругленный прямоугольник 46"/>
          <p:cNvSpPr/>
          <p:nvPr/>
        </p:nvSpPr>
        <p:spPr>
          <a:xfrm>
            <a:off x="287280" y="2414520"/>
            <a:ext cx="2452680" cy="93672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Текстовые зада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Скругленный прямоугольник 47"/>
          <p:cNvSpPr/>
          <p:nvPr/>
        </p:nvSpPr>
        <p:spPr>
          <a:xfrm>
            <a:off x="4054320" y="1844640"/>
            <a:ext cx="4838760" cy="237636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Единый государственный экзаме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Стрелка вправо 1"/>
          <p:cNvSpPr/>
          <p:nvPr/>
        </p:nvSpPr>
        <p:spPr>
          <a:xfrm>
            <a:off x="2757600" y="2700360"/>
            <a:ext cx="1296720" cy="358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3" name="Рисунок 3" descr=""/>
          <p:cNvPicPr/>
          <p:nvPr/>
        </p:nvPicPr>
        <p:blipFill>
          <a:blip r:embed="rId1"/>
          <a:stretch/>
        </p:blipFill>
        <p:spPr>
          <a:xfrm>
            <a:off x="-46080" y="0"/>
            <a:ext cx="9180720" cy="1238400"/>
          </a:xfrm>
          <a:prstGeom prst="rect">
            <a:avLst/>
          </a:prstGeom>
          <a:ln w="0">
            <a:noFill/>
          </a:ln>
        </p:spPr>
      </p:pic>
      <p:sp>
        <p:nvSpPr>
          <p:cNvPr id="2074" name="Rectangle 2"/>
          <p:cNvSpPr/>
          <p:nvPr/>
        </p:nvSpPr>
        <p:spPr>
          <a:xfrm>
            <a:off x="1547640" y="179280"/>
            <a:ext cx="723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Областное государственное бюджетное общеобразовательное учреждение «Средняя общеобразовательная школа № 20 с углубленным изучением отдельных предметов г. Старого Оскола» Белгород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5" name="Рисунок 7" descr=""/>
          <p:cNvPicPr/>
          <p:nvPr/>
        </p:nvPicPr>
        <p:blipFill>
          <a:blip r:embed="rId2"/>
          <a:stretch/>
        </p:blipFill>
        <p:spPr>
          <a:xfrm>
            <a:off x="85680" y="96840"/>
            <a:ext cx="1584360" cy="1079640"/>
          </a:xfrm>
          <a:prstGeom prst="rect">
            <a:avLst/>
          </a:prstGeom>
          <a:ln w="0">
            <a:noFill/>
          </a:ln>
        </p:spPr>
      </p:pic>
      <p:pic>
        <p:nvPicPr>
          <p:cNvPr id="2076" name="Picture 7" descr="Picture background"/>
          <p:cNvPicPr/>
          <p:nvPr/>
        </p:nvPicPr>
        <p:blipFill>
          <a:blip r:embed="rId3"/>
          <a:stretch/>
        </p:blipFill>
        <p:spPr>
          <a:xfrm>
            <a:off x="503280" y="3925800"/>
            <a:ext cx="3166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7" name="видеоролик к презентации.mp4" descr=""/>
          <p:cNvPicPr/>
          <p:nvPr/>
        </p:nvPicPr>
        <p:blipFill>
          <a:blip r:embed="rId1"/>
          <a:stretch/>
        </p:blipFill>
        <p:spPr>
          <a:xfrm>
            <a:off x="31680" y="944640"/>
            <a:ext cx="88171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38900" fill="hold"/>
                                        <p:tgtEl>
                                          <p:spTgt spid="20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2077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evt="onClick">
                          <p:tgtEl>
                            <p:spTgt spid="2077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8" dur="1" fill="hold"/>
                                        <p:tgtEl>
                                          <p:spTgt spid="20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Text Box 58"/>
          <p:cNvSpPr/>
          <p:nvPr/>
        </p:nvSpPr>
        <p:spPr>
          <a:xfrm>
            <a:off x="0" y="189000"/>
            <a:ext cx="9072720" cy="65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e79"/>
                </a:solidFill>
                <a:latin typeface="Arial Black"/>
                <a:ea typeface="Times New Roman"/>
              </a:rPr>
              <a:t>МОДЕЛ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e79"/>
                </a:solidFill>
                <a:latin typeface="Arial Black"/>
                <a:ea typeface="Times New Roman"/>
              </a:rPr>
              <a:t>П.Я. Гальперин, В.В. Давыдов, Л.И. Занк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e79"/>
                </a:solidFill>
                <a:latin typeface="Arial Black"/>
                <a:ea typeface="Times New Roman"/>
              </a:rPr>
              <a:t>Н.И. Непомнящая и др. психологи указывали на необходимость использования моделир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атематическая модель </a:t>
            </a:r>
            <a:r>
              <a:rPr b="1" lang="ru-RU" sz="2800" spc="-1" strike="noStrike">
                <a:solidFill>
                  <a:srgbClr val="1f4e79"/>
                </a:solidFill>
                <a:latin typeface="Arial Black"/>
                <a:ea typeface="Times New Roman"/>
              </a:rPr>
              <a:t>– описание какого-либо реального процесса или некоторой исследуемой ситуации на языке математических понятий, формул и отнош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Text Box 48"/>
          <p:cNvSpPr/>
          <p:nvPr/>
        </p:nvSpPr>
        <p:spPr>
          <a:xfrm>
            <a:off x="1042920" y="260280"/>
            <a:ext cx="741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e79"/>
                </a:solidFill>
                <a:latin typeface="Arial Black"/>
                <a:ea typeface="Times New Roman"/>
              </a:rPr>
              <a:t>Математические объек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Прямоугольник 1"/>
          <p:cNvSpPr/>
          <p:nvPr/>
        </p:nvSpPr>
        <p:spPr>
          <a:xfrm>
            <a:off x="71280" y="730080"/>
            <a:ext cx="8604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Arial"/>
              </a:rPr>
              <a:t>числовые формул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Arial"/>
              </a:rPr>
              <a:t>числовые таблиц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Arial"/>
              </a:rPr>
              <a:t>буквенные формул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Arial"/>
              </a:rPr>
              <a:t>функц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Arial"/>
              </a:rPr>
              <a:t>уравнения алгебраические или дифференциальные и их систем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Arial"/>
              </a:rPr>
              <a:t>неравен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Arial"/>
              </a:rPr>
              <a:t>системы неравенств (а также неравенств и уравнений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Arial"/>
              </a:rPr>
              <a:t>ря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Arial"/>
              </a:rPr>
              <a:t>геометрические фигу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Arial"/>
              </a:rPr>
              <a:t>чертежи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Arial"/>
              </a:rPr>
              <a:t>разнообразные графосхем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Arial"/>
              </a:rPr>
              <a:t>диаграммы Вен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Arial"/>
              </a:rPr>
              <a:t>графы и т. 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c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174240" y="0"/>
            <a:ext cx="88916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блица представляет собой структуризацию информации, представленной в задаче.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блица является математической моделью. 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082" name="Объект 3" descr=""/>
          <p:cNvPicPr/>
          <p:nvPr/>
        </p:nvPicPr>
        <p:blipFill>
          <a:blip r:embed="rId1"/>
          <a:stretch/>
        </p:blipFill>
        <p:spPr>
          <a:xfrm>
            <a:off x="165240" y="835200"/>
            <a:ext cx="8491320" cy="61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2T22:54:30Z</dcterms:created>
  <dc:creator>V</dc:creator>
  <dc:description/>
  <dc:language>en-US</dc:language>
  <cp:lastModifiedBy>Olga</cp:lastModifiedBy>
  <dcterms:modified xsi:type="dcterms:W3CDTF">2025-02-16T08:14:58Z</dcterms:modified>
  <cp:revision>170</cp:revision>
  <dc:subject/>
  <dc:title>Слайд 1</dc:title>
</cp:coreProperties>
</file>